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B7B3-1156-4325-8D17-AE2E583BDB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on de chem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ensemble des répertoires qu’il faut parcourir pour accéder à un fichier ou un répertoire depuis la ra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quer la notion de chemin en détail et faire des petits exemples dans lesquels ils vous donnent des chemins pour accéder à des fich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chemin absolu : depuis la racine de l’arbores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chemin relatif : par rapport à un autre fichier ou dossier ; utilisation de .. pour remonter au dossier 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estion : quel est le chemin absolu du fichier et du dossier cibles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liens (raccourcis), ils servent à renvoyer à d’autres fichiers qui sont appelés fichiers c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liens ne sont pas des copies des fichiers ci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a permet d’éviter d’avoir plusieurs copies d’un même fich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peut très bien ranger un fichier très bas dans une arborescence parce que cela est logique, mais en avoir besoin très freque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ors il est utile de faire un raccourci vers ce fichier  par exemple sur le bureau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vantage : rapidité d’accè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us pouvez illustrer sur votre machine ou au tableau si cela ne leur paraît pas cl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organisation va être fortement liée à l’utilisation que l’on fera ultérieurement des informations que l’on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uitivement, si l’on regarde cet ensemble comment peut-on organis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t p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 d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t p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égorie d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e au tableau deux organisations différentes et voir les avantages est les inconvén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hemin indiqué dans la barre d’adresse est le chemin absolu du dossier sélectionné dans le volet d’exploration (ici, C2i, qui se trouve dans le dossier K: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volet détail montre le contenu du dossier sélectionné dans le volet d’explo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a vu les fichiers de données, voici des icônes qui les représ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us les fichiers d’un même type auront la même icô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rogrammes ou fichiers exécutabl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sont caractérisés par une extension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ex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 Ils ont des icônes qui leur sont prop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tailler au tableau la notion de fichiers exécutable : les fichiers exécutables contiennent des instructions directement interprétables par la machine : traitement de texte, tableurs, lecteur multimédia,… Ils manipulent des fichiers de donn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épertoi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(ou dossiers), on l’a déjà vu, servent à organiser l’ensemble des documents ou des applications de façon hiérarch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ille d’un fich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rer qu’il y a deux notions de t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taille du fichier qui correspond à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taille des informations conten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ns le fichier 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taille sur le dis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qui dépend de la taille et du nombre des blocs occupés par le fichier sur le disque (voir l'organisation physique des donné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riétai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’est la personne qui a le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eu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’est celui qui a écrit le document. Celui-ci peut le distribuer et les personnes qui le reçoivent en deviennent alors propriéta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création, date de modification et de dernier accè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ass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cture se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un fichier en lecture seule ne peut être modifi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h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un fichier peut-être caché, on ne peut y accéder que si l’on connaît son nom. Autrement dit quelqu’un qui fouillerait dans vos dossiers ne pourrait pas y accéder par has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la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’est le chemin pour arriver à ce dossier depuis la ra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il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’est grosso-modo la taille de tous les fichiers et tous les dossiers qui sont ded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’est le nombre de fichiers et de dossiers qui se trouvent dans le répertoire sur le niveau suivan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quer avec un dessin d’arborescence ou aider des arborescence des précédents trans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’est la date de cré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ès à l’espace personnel à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rès des modifications, suppressions, créations de fichiers, les données sont fragmentées sur le disque ; peut engendrer un ralentissement pour l’accès au données =&gt; défragmenter le disque (voir grain Mood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nd on est sous une version récente de Windows (Windows 95 et plus) on a le droit de mettre 256 caractères pour l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tens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faut toujours un point entre le nom et l’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 convention, on met des extensions qui ont trois caractères, mais on peut en mettre p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y a des extensions conventionnelles :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ex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(document exécutable),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do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(document Word),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xl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document Excel),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tx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( document texte),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pp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(document Power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on met des extensions conventionnelles, en double-cliquant dessus le système d’exploitation ouvrira l’application correspond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e la comparaison avec une bibliothè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range les livres dans une bibliothèque. On met rarement les livres en vrac dans la bibliothè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organise la bibliothèque en rayonnages, chaque rayonnage étant un ensemble d’étagè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 chaque étagère, on trouve enfin les liv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se peut que des livres soient directement rangés dans des rayons (pas sur une étagère ; par exemple, livre0 et livre 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’un point de vue informatique cette organisation s’appelle un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boresc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peut voir un arbre à l’envers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uil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œ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veau intermédiaire entre la racine et les feuil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à partir duquel on détaille un niv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st le départ d'une arboresc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épertoi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erme informatique)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ssi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erme Window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qu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épertoire peut conteni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utant de répertoires que l’utilisateur le souha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peu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ir à la fois des répertoires et des fichi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et ce à tous les niveaux de l’arboresc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fichier ne peut contenir de réperto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répertoire racine contient tous les répertoires et tous les fichiers de l’arboresc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on de chem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ensemble des répertoires qu’il faut parcourir pour accéder à un fichier ou un réperto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quer la notion de chemin en détail et faire des petits exemples dans lesquels ils vous donnent des chemins pour accéder à des fich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chemin absolu : depuis la racine de l’arbores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chemin relatif : par rapport à un autre fichier ou dossier ; utilisation de .. pour remonter au dossier 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DFC0-27B1-4F91-82D9-D409F9AED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90A4-1075-4659-8F43-9C4E9ACBD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E072-35BA-43A4-B16C-A283AD6BD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07E7-4D21-43B1-ABD2-D96A36CE6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F3AA-FA47-45EA-81AB-7749DFA76D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6ACA-EE64-459C-8F79-6E8AC4560F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1E05-E172-4D7F-94E4-88D5E2170C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966D-B09A-4F47-A397-DECEA87428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18D3-8F55-4F04-9D98-07926DFB53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BFC6-D616-4D09-B233-32BAC540D9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81B1-1AC7-4B5D-B158-42F929168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4542-5176-4A06-85BD-A7E3A666E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EA92-8A9A-469C-842A-FC4FDE2508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59BA-3A37-47D8-B2EF-20391EBB29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3791-85F9-4405-B0C0-750BF880E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640A-87B7-468B-B7CF-8EDADDBC39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5A05-F38A-4ECC-8CB5-1F0B34F32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CB31-1774-4C1F-909B-AA4D20D10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997B-0A45-451F-BB0B-9B7309417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674F-642D-46B2-A802-92FCF4F87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0331-1D8E-43DF-8581-C4203F997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866A-770F-479B-A2DA-181F73794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1ECD-0536-4EF2-BF33-4EC85DC85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ADE2-191B-4835-BB03-476164ABD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A492-A683-42C0-9246-03D982A8EB76}" type="slidenum">
              <a:rPr b="0" lang="fr-FR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5267-6D08-4C73-A00A-7CFC70868FE4}" type="slidenum">
              <a:rPr b="0" lang="fr-FR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onespace.univ-tlse1.fr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stion des donné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omaines B1 et 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9D07-193C-4B1E-B40B-59714E7AC9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52280" y="3429000"/>
            <a:ext cx="1371600" cy="1447920"/>
            <a:chOff x="152280" y="3429000"/>
            <a:chExt cx="1371600" cy="1447920"/>
          </a:xfrm>
        </p:grpSpPr>
        <p:sp>
          <p:nvSpPr>
            <p:cNvPr id="262" name=""/>
            <p:cNvSpPr/>
            <p:nvPr/>
          </p:nvSpPr>
          <p:spPr>
            <a:xfrm>
              <a:off x="76212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152280" y="4191120"/>
              <a:ext cx="1371600" cy="6858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D eco.d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124080" y="3429000"/>
            <a:ext cx="4038840" cy="1600200"/>
            <a:chOff x="3124080" y="3429000"/>
            <a:chExt cx="4038840" cy="1600200"/>
          </a:xfrm>
        </p:grpSpPr>
        <p:grpSp>
          <p:nvGrpSpPr>
            <p:cNvPr id="265" name=""/>
            <p:cNvGrpSpPr/>
            <p:nvPr/>
          </p:nvGrpSpPr>
          <p:grpSpPr>
            <a:xfrm>
              <a:off x="3124080" y="3429000"/>
              <a:ext cx="2666880" cy="762120"/>
              <a:chOff x="3124080" y="3429000"/>
              <a:chExt cx="2666880" cy="762120"/>
            </a:xfrm>
          </p:grpSpPr>
          <p:sp>
            <p:nvSpPr>
              <p:cNvPr id="266" name=""/>
              <p:cNvSpPr/>
              <p:nvPr/>
            </p:nvSpPr>
            <p:spPr>
              <a:xfrm flipH="1">
                <a:off x="3124080" y="3429000"/>
                <a:ext cx="129528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19360" y="342900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19360" y="3429000"/>
                <a:ext cx="137160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Document"/>
            <p:cNvSpPr/>
            <p:nvPr/>
          </p:nvSpPr>
          <p:spPr>
            <a:xfrm>
              <a:off x="5562720" y="4192560"/>
              <a:ext cx="1600200" cy="836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que générale.d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H="1">
            <a:off x="1523880" y="495468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49546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495468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85800" y="198288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42840" y="19828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19828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52720" y="401760"/>
            <a:ext cx="669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chemin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2819520" y="992160"/>
            <a:ext cx="129528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ile"/>
          <p:cNvSpPr/>
          <p:nvPr/>
        </p:nvSpPr>
        <p:spPr>
          <a:xfrm>
            <a:off x="0" y="2541600"/>
            <a:ext cx="133668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ile"/>
          <p:cNvSpPr/>
          <p:nvPr/>
        </p:nvSpPr>
        <p:spPr>
          <a:xfrm>
            <a:off x="1886040" y="2541600"/>
            <a:ext cx="196524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é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ile"/>
          <p:cNvSpPr/>
          <p:nvPr/>
        </p:nvSpPr>
        <p:spPr>
          <a:xfrm>
            <a:off x="4008600" y="2541600"/>
            <a:ext cx="173016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828800" y="4040280"/>
            <a:ext cx="3429000" cy="914400"/>
            <a:chOff x="1828800" y="4040280"/>
            <a:chExt cx="3429000" cy="914400"/>
          </a:xfrm>
        </p:grpSpPr>
        <p:sp>
          <p:nvSpPr>
            <p:cNvPr id="282" name="File"/>
            <p:cNvSpPr/>
            <p:nvPr/>
          </p:nvSpPr>
          <p:spPr>
            <a:xfrm>
              <a:off x="1828800" y="4040280"/>
              <a:ext cx="160020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èmes Explo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ile"/>
            <p:cNvSpPr/>
            <p:nvPr/>
          </p:nvSpPr>
          <p:spPr>
            <a:xfrm>
              <a:off x="3657600" y="4040280"/>
              <a:ext cx="160020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angages de prog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990720" y="3581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Chemin rela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57200" y="5487840"/>
            <a:ext cx="2820600" cy="1065240"/>
            <a:chOff x="457200" y="5487840"/>
            <a:chExt cx="2820600" cy="1065240"/>
          </a:xfrm>
        </p:grpSpPr>
        <p:sp>
          <p:nvSpPr>
            <p:cNvPr id="287" name="Document"/>
            <p:cNvSpPr/>
            <p:nvPr/>
          </p:nvSpPr>
          <p:spPr>
            <a:xfrm>
              <a:off x="457200" y="5487840"/>
              <a:ext cx="1219680" cy="10652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ndows et ses bugs.d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1905840" y="5487840"/>
              <a:ext cx="1371960" cy="10652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inux et ses applis.t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68360" y="1982880"/>
            <a:ext cx="4332240" cy="4614840"/>
            <a:chOff x="468360" y="1982880"/>
            <a:chExt cx="4332240" cy="4614840"/>
          </a:xfrm>
        </p:grpSpPr>
        <p:sp>
          <p:nvSpPr>
            <p:cNvPr id="290" name=""/>
            <p:cNvSpPr/>
            <p:nvPr/>
          </p:nvSpPr>
          <p:spPr>
            <a:xfrm flipH="1">
              <a:off x="1523880" y="4954680"/>
              <a:ext cx="1067040" cy="53316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29000" y="1982880"/>
              <a:ext cx="1371600" cy="68580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123720" y="3430440"/>
              <a:ext cx="1295640" cy="76212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8360" y="5445000"/>
              <a:ext cx="1224000" cy="1152720"/>
            </a:xfrm>
            <a:prstGeom prst="rect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5364000" y="112536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Chemin rela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par rapport à un autre fichier ou dos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19640" y="5373720"/>
            <a:ext cx="572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rapport à TD eco.doc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.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\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\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èmesExploitation 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\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indows et ses bugs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10920" y="1989000"/>
            <a:ext cx="2808360" cy="71928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B359-43B5-479A-9A2A-EA8B4727D7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152280" y="3429000"/>
            <a:ext cx="1371600" cy="1447920"/>
            <a:chOff x="152280" y="3429000"/>
            <a:chExt cx="1371600" cy="1447920"/>
          </a:xfrm>
        </p:grpSpPr>
        <p:sp>
          <p:nvSpPr>
            <p:cNvPr id="298" name=""/>
            <p:cNvSpPr/>
            <p:nvPr/>
          </p:nvSpPr>
          <p:spPr>
            <a:xfrm>
              <a:off x="76212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152280" y="4191120"/>
              <a:ext cx="1371600" cy="6858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D eco.d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124080" y="3429000"/>
            <a:ext cx="4038840" cy="1600200"/>
            <a:chOff x="3124080" y="3429000"/>
            <a:chExt cx="4038840" cy="1600200"/>
          </a:xfrm>
        </p:grpSpPr>
        <p:grpSp>
          <p:nvGrpSpPr>
            <p:cNvPr id="301" name=""/>
            <p:cNvGrpSpPr/>
            <p:nvPr/>
          </p:nvGrpSpPr>
          <p:grpSpPr>
            <a:xfrm>
              <a:off x="3124080" y="3429000"/>
              <a:ext cx="2666880" cy="762120"/>
              <a:chOff x="3124080" y="3429000"/>
              <a:chExt cx="2666880" cy="762120"/>
            </a:xfrm>
          </p:grpSpPr>
          <p:sp>
            <p:nvSpPr>
              <p:cNvPr id="302" name=""/>
              <p:cNvSpPr/>
              <p:nvPr/>
            </p:nvSpPr>
            <p:spPr>
              <a:xfrm flipH="1">
                <a:off x="3124080" y="3429000"/>
                <a:ext cx="129528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19360" y="342900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19360" y="3429000"/>
                <a:ext cx="137160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Document"/>
            <p:cNvSpPr/>
            <p:nvPr/>
          </p:nvSpPr>
          <p:spPr>
            <a:xfrm>
              <a:off x="5562720" y="4192560"/>
              <a:ext cx="1600200" cy="836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que générale.d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1523880" y="495468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90920" y="49546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90920" y="495468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85800" y="198288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742840" y="19828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19828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52720" y="401760"/>
            <a:ext cx="669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chemin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3" name="File"/>
          <p:cNvSpPr/>
          <p:nvPr/>
        </p:nvSpPr>
        <p:spPr>
          <a:xfrm>
            <a:off x="2819520" y="992160"/>
            <a:ext cx="129528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ile"/>
          <p:cNvSpPr/>
          <p:nvPr/>
        </p:nvSpPr>
        <p:spPr>
          <a:xfrm>
            <a:off x="0" y="2541600"/>
            <a:ext cx="133668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ile"/>
          <p:cNvSpPr/>
          <p:nvPr/>
        </p:nvSpPr>
        <p:spPr>
          <a:xfrm>
            <a:off x="1886040" y="2541600"/>
            <a:ext cx="196524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é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ile"/>
          <p:cNvSpPr/>
          <p:nvPr/>
        </p:nvSpPr>
        <p:spPr>
          <a:xfrm>
            <a:off x="4008600" y="2541600"/>
            <a:ext cx="173016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828800" y="4040280"/>
            <a:ext cx="3429000" cy="914400"/>
            <a:chOff x="1828800" y="4040280"/>
            <a:chExt cx="3429000" cy="914400"/>
          </a:xfrm>
        </p:grpSpPr>
        <p:sp>
          <p:nvSpPr>
            <p:cNvPr id="318" name="File"/>
            <p:cNvSpPr/>
            <p:nvPr/>
          </p:nvSpPr>
          <p:spPr>
            <a:xfrm>
              <a:off x="1828800" y="4040280"/>
              <a:ext cx="160020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èmes Explo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ile"/>
            <p:cNvSpPr/>
            <p:nvPr/>
          </p:nvSpPr>
          <p:spPr>
            <a:xfrm>
              <a:off x="3657600" y="4040280"/>
              <a:ext cx="160020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angages de prog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57200" y="5487840"/>
            <a:ext cx="2820600" cy="1065240"/>
            <a:chOff x="457200" y="5487840"/>
            <a:chExt cx="2820600" cy="1065240"/>
          </a:xfrm>
        </p:grpSpPr>
        <p:sp>
          <p:nvSpPr>
            <p:cNvPr id="322" name="Document"/>
            <p:cNvSpPr/>
            <p:nvPr/>
          </p:nvSpPr>
          <p:spPr>
            <a:xfrm>
              <a:off x="457200" y="5487840"/>
              <a:ext cx="1219680" cy="10652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ndows et ses bugs.d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Document"/>
            <p:cNvSpPr/>
            <p:nvPr/>
          </p:nvSpPr>
          <p:spPr>
            <a:xfrm>
              <a:off x="1905840" y="5487840"/>
              <a:ext cx="1371960" cy="10652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inux et ses applis.t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364000" y="1125360"/>
            <a:ext cx="3780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Raccour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u lien) : permet d’accéder à un fichier ou dossier à partir d’un autre dos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716360" y="3500280"/>
            <a:ext cx="4264200" cy="1884600"/>
            <a:chOff x="4716360" y="3500280"/>
            <a:chExt cx="4264200" cy="1884600"/>
          </a:xfrm>
        </p:grpSpPr>
        <p:sp>
          <p:nvSpPr>
            <p:cNvPr id="326" name="Document"/>
            <p:cNvSpPr/>
            <p:nvPr/>
          </p:nvSpPr>
          <p:spPr>
            <a:xfrm>
              <a:off x="7380360" y="4221000"/>
              <a:ext cx="1600200" cy="10368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Raccourci Linux et ses applis.t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7451640" y="5084640"/>
              <a:ext cx="30024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716360" y="3500280"/>
              <a:ext cx="331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19640" y="1989000"/>
            <a:ext cx="4897440" cy="1668600"/>
            <a:chOff x="3419640" y="1989000"/>
            <a:chExt cx="4897440" cy="1668600"/>
          </a:xfrm>
        </p:grpSpPr>
        <p:sp>
          <p:nvSpPr>
            <p:cNvPr id="330" name="File"/>
            <p:cNvSpPr/>
            <p:nvPr/>
          </p:nvSpPr>
          <p:spPr>
            <a:xfrm>
              <a:off x="6227640" y="2637000"/>
              <a:ext cx="2089440" cy="9144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ccourci Syst. Explo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6227640" y="3357720"/>
              <a:ext cx="30024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3419640" y="1989000"/>
              <a:ext cx="280800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348000" y="5300640"/>
            <a:ext cx="4753080" cy="865080"/>
            <a:chOff x="3348000" y="5300640"/>
            <a:chExt cx="4753080" cy="865080"/>
          </a:xfrm>
        </p:grpSpPr>
        <p:sp>
          <p:nvSpPr>
            <p:cNvPr id="334" name=""/>
            <p:cNvSpPr/>
            <p:nvPr/>
          </p:nvSpPr>
          <p:spPr>
            <a:xfrm>
              <a:off x="3348000" y="5300640"/>
              <a:ext cx="4753080" cy="865080"/>
            </a:xfrm>
            <a:custGeom>
              <a:avLst/>
              <a:gdLst/>
              <a:ahLst/>
              <a:rect l="l" t="t" r="r" b="b"/>
              <a:pathLst>
                <a:path w="2994" h="590">
                  <a:moveTo>
                    <a:pt x="2994" y="0"/>
                  </a:moveTo>
                  <a:cubicBezTo>
                    <a:pt x="2926" y="132"/>
                    <a:pt x="2858" y="265"/>
                    <a:pt x="2359" y="363"/>
                  </a:cubicBezTo>
                  <a:cubicBezTo>
                    <a:pt x="1860" y="461"/>
                    <a:pt x="930" y="525"/>
                    <a:pt x="0" y="590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19640" y="5661000"/>
              <a:ext cx="158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Arial"/>
                </a:rPr>
                <a:t>Fichier c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187280" y="3573360"/>
            <a:ext cx="5832720" cy="576360"/>
            <a:chOff x="1187280" y="3573360"/>
            <a:chExt cx="5832720" cy="576360"/>
          </a:xfrm>
        </p:grpSpPr>
        <p:sp>
          <p:nvSpPr>
            <p:cNvPr id="337" name=""/>
            <p:cNvSpPr/>
            <p:nvPr/>
          </p:nvSpPr>
          <p:spPr>
            <a:xfrm>
              <a:off x="2700360" y="3573360"/>
              <a:ext cx="4319640" cy="576360"/>
            </a:xfrm>
            <a:custGeom>
              <a:avLst/>
              <a:gdLst/>
              <a:ahLst/>
              <a:rect l="l" t="t" r="r" b="b"/>
              <a:pathLst>
                <a:path w="2721" h="363">
                  <a:moveTo>
                    <a:pt x="2721" y="0"/>
                  </a:moveTo>
                  <a:cubicBezTo>
                    <a:pt x="2623" y="98"/>
                    <a:pt x="2525" y="197"/>
                    <a:pt x="2132" y="227"/>
                  </a:cubicBezTo>
                  <a:cubicBezTo>
                    <a:pt x="1739" y="257"/>
                    <a:pt x="718" y="158"/>
                    <a:pt x="363" y="181"/>
                  </a:cubicBezTo>
                  <a:cubicBezTo>
                    <a:pt x="8" y="204"/>
                    <a:pt x="4" y="283"/>
                    <a:pt x="0" y="363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87280" y="364500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Arial"/>
                </a:rPr>
                <a:t>Dossier c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FC56-ED40-44A8-ABFD-D3605544E8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n exempl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1120" y="153180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éothè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266688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eïd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lle et Sébastie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bon la brute et le truan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ss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chiens de chas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ss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girafe et le giraf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uisine de grand-mè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ss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hâteau dans le cie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eigneur des anneaux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i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gastronomie du Pays-Basque  Cass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6880" y="2068560"/>
            <a:ext cx="83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érer sa vidéothèque en gardant des fiches descriptives sur chaque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6165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elle organisation adopt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C63B-0490-4315-A8DD-FB00BA2BBD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’explorateur Window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0773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marrer/Programmes/Explorateur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rcRect l="0" t="0" r="0" b="48028"/>
          <a:stretch/>
        </p:blipFill>
        <p:spPr>
          <a:xfrm>
            <a:off x="2286000" y="2209680"/>
            <a:ext cx="65419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0" y="2895480"/>
            <a:ext cx="8915400" cy="703800"/>
            <a:chOff x="0" y="2895480"/>
            <a:chExt cx="8915400" cy="703800"/>
          </a:xfrm>
        </p:grpSpPr>
        <p:sp>
          <p:nvSpPr>
            <p:cNvPr id="350" name=""/>
            <p:cNvSpPr/>
            <p:nvPr/>
          </p:nvSpPr>
          <p:spPr>
            <a:xfrm>
              <a:off x="2209680" y="2971800"/>
              <a:ext cx="6705720" cy="2286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2895480"/>
              <a:ext cx="220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rre d’adres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chemin absolu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05120" y="3124080"/>
              <a:ext cx="30456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 flipV="1">
            <a:off x="3429000" y="4648320"/>
            <a:ext cx="1828800" cy="45720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362320" y="5943240"/>
            <a:ext cx="2514600" cy="932760"/>
            <a:chOff x="2362320" y="5943240"/>
            <a:chExt cx="2514600" cy="932760"/>
          </a:xfrm>
        </p:grpSpPr>
        <p:sp>
          <p:nvSpPr>
            <p:cNvPr id="355" name=""/>
            <p:cNvSpPr/>
            <p:nvPr/>
          </p:nvSpPr>
          <p:spPr>
            <a:xfrm>
              <a:off x="2514600" y="6172200"/>
              <a:ext cx="23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olet d’exploration (arborescenc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3543480" y="4762080"/>
              <a:ext cx="152280" cy="2514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952880" y="5943240"/>
            <a:ext cx="3962520" cy="916920"/>
            <a:chOff x="4952880" y="5943240"/>
            <a:chExt cx="3962520" cy="916920"/>
          </a:xfrm>
        </p:grpSpPr>
        <p:sp>
          <p:nvSpPr>
            <p:cNvPr id="358" name=""/>
            <p:cNvSpPr/>
            <p:nvPr/>
          </p:nvSpPr>
          <p:spPr>
            <a:xfrm>
              <a:off x="4952880" y="6156360"/>
              <a:ext cx="396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olet détail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contenu du dossier sélectionné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6819840" y="4228560"/>
              <a:ext cx="152280" cy="3581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93240 h 3581280"/>
                <a:gd name="textAreaBottom" fmla="*/ 34880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4A4F-6DA2-4371-8DCA-E5823CE21B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050560" y="401760"/>
            <a:ext cx="669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’explorateur Window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572160" y="1054080"/>
            <a:ext cx="2270160" cy="5614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chiers ou dossiers stocké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anière organisée et hiérarch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orescence techniquement infi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BA71-176A-4318-8A9B-2625BAFBC3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’explorateur Window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3394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s données personnell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ns l’unité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 documents est un raccourci ve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742" t="1082" r="53699" b="12848"/>
          <a:stretch/>
        </p:blipFill>
        <p:spPr>
          <a:xfrm>
            <a:off x="4500720" y="1341360"/>
            <a:ext cx="439236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4356000" y="4076640"/>
            <a:ext cx="3095640" cy="21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6000" y="2924280"/>
            <a:ext cx="3095640" cy="21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68840" y="2997360"/>
            <a:ext cx="587160" cy="1152360"/>
          </a:xfrm>
          <a:custGeom>
            <a:avLst/>
            <a:gdLst/>
            <a:ahLst/>
            <a:rect l="l" t="t" r="r" b="b"/>
            <a:pathLst>
              <a:path w="370" h="726">
                <a:moveTo>
                  <a:pt x="325" y="0"/>
                </a:moveTo>
                <a:cubicBezTo>
                  <a:pt x="162" y="121"/>
                  <a:pt x="0" y="242"/>
                  <a:pt x="7" y="363"/>
                </a:cubicBezTo>
                <a:cubicBezTo>
                  <a:pt x="14" y="484"/>
                  <a:pt x="192" y="605"/>
                  <a:pt x="370" y="726"/>
                </a:cubicBezTo>
              </a:path>
            </a:pathLst>
          </a:custGeom>
          <a:noFill/>
          <a:ln w="28440">
            <a:solidFill>
              <a:srgbClr val="cc0099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461E-8B76-4AB8-AA40-130A84F174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 d'un fichier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(ou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s, images, multimédi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programmes ou fichiers exécu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pertoires ou doss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courcis ou li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65520" y="3030480"/>
            <a:ext cx="511200" cy="6094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763800" y="5253120"/>
            <a:ext cx="1600200" cy="7682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3638520" y="3030480"/>
            <a:ext cx="536760" cy="5828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4500720" y="4498920"/>
            <a:ext cx="687240" cy="6588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2689200" y="3030480"/>
            <a:ext cx="558720" cy="6858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6"/>
          <a:stretch/>
        </p:blipFill>
        <p:spPr>
          <a:xfrm>
            <a:off x="1763640" y="3030480"/>
            <a:ext cx="536760" cy="6904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propriétés des fichier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EBF5-A5A3-4470-9625-332E94A3E7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propriétés des fichier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540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ace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emin abso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le du fich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le sur le di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700440" y="1268280"/>
            <a:ext cx="4878360" cy="511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DADC-9F7C-490B-A5D6-1FF5B3AE25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propriétés des dossiers 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4197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Dossier de fich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ace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emin abso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mbre de fichiers et doss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 de cré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114800" cy="49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ED9B-D7C9-470B-AA2C-5E2F4A07DC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céder à distance aux donné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Mon espace 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nespace.univ-tlse1.f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rcRect l="9921" t="11664" r="11722" b="30857"/>
          <a:stretch/>
        </p:blipFill>
        <p:spPr>
          <a:xfrm>
            <a:off x="611280" y="2060640"/>
            <a:ext cx="5111640" cy="299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91" name=""/>
          <p:cNvGrpSpPr/>
          <p:nvPr/>
        </p:nvGrpSpPr>
        <p:grpSpPr>
          <a:xfrm>
            <a:off x="3851280" y="3933720"/>
            <a:ext cx="4597560" cy="2774880"/>
            <a:chOff x="3851280" y="3933720"/>
            <a:chExt cx="4597560" cy="2774880"/>
          </a:xfrm>
        </p:grpSpPr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3851280" y="4149720"/>
              <a:ext cx="459756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995640" y="3933720"/>
              <a:ext cx="360360" cy="36036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780000" y="6093000"/>
            <a:ext cx="4679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6653-154B-401F-992F-930379EC4A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rganisation physiqu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pport de stockage (disque dur, DVD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Arial"/>
              </a:rPr>
              <a:t>Blo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plus petite unité de stockage (de 512 octets à 32 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criture des données sur un ou plusieurs blocs, consécutifs ou non (</a:t>
            </a:r>
            <a:r>
              <a:rPr b="1" lang="fr-FR" sz="2000" spc="-1" strike="noStrike">
                <a:solidFill>
                  <a:srgbClr val="cc0099"/>
                </a:solidFill>
                <a:latin typeface="Arial"/>
              </a:rPr>
              <a:t>fragment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nées localisées grâce aux adresses de leurs blocs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2000" spc="-1" strike="noStrike">
                <a:solidFill>
                  <a:srgbClr val="cc0099"/>
                </a:solidFill>
                <a:latin typeface="Arial"/>
              </a:rPr>
              <a:t>table d’alloc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99"/>
                </a:solidFill>
                <a:latin typeface="Arial"/>
              </a:rPr>
              <a:t>Formatag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Physique (de bas niveau) : création des bl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Logique (de haut niveau) : création de la table d’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780000" y="3500280"/>
            <a:ext cx="2879640" cy="18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B04F-5B12-4E53-9450-9211047E7D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céder à distance aux donné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ès identification, accès à votre espace personnel 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0" t="0" r="0" b="51903"/>
          <a:stretch/>
        </p:blipFill>
        <p:spPr>
          <a:xfrm>
            <a:off x="971640" y="1989000"/>
            <a:ext cx="7419960" cy="4535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3975-7E66-4BD0-B936-A872105642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registrer et Sauvegarder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registrer : transférer les données en mémoire vive sur le disque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uvegarder : dupliquer les fichiers stockés sur le disque dur vers un autre support de sto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met de prévenir d’éventuels problè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uvegarder régulièrement vo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e pas sauvegarder sur n’importe que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lé USB n’est pas un support de stockage 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e jamais travailler directement sur la c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e pas l’utiliser comme support de sauvegarde pér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 moyen de transfert de fichi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FDB6-71C2-43A1-8BC9-40FF33464E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6766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rganisation logiqu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Fic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e stocker de l'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ux typ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(images, text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écu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oss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u répertoi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'organiser les fich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DA70-7CFD-404A-9A07-040E2AE67E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u’est ce qu’un fichier 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6360" y="1773360"/>
            <a:ext cx="78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ordonné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è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uns à la suite des autres, formant ainsi une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éhensible par l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56720" y="3565440"/>
            <a:ext cx="5526000" cy="774720"/>
            <a:chOff x="756720" y="3565440"/>
            <a:chExt cx="5526000" cy="774720"/>
          </a:xfrm>
        </p:grpSpPr>
        <p:sp>
          <p:nvSpPr>
            <p:cNvPr id="101" name=""/>
            <p:cNvSpPr/>
            <p:nvPr/>
          </p:nvSpPr>
          <p:spPr>
            <a:xfrm>
              <a:off x="1521000" y="3971880"/>
              <a:ext cx="47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Ô râge ! Ô Désespoir ! Ô vieillesse ennemie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720" y="35654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enu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843280" y="1197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Comparaison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56000" y="5013360"/>
            <a:ext cx="1450800" cy="774360"/>
            <a:chOff x="756000" y="5013360"/>
            <a:chExt cx="1450800" cy="774360"/>
          </a:xfrm>
        </p:grpSpPr>
        <p:sp>
          <p:nvSpPr>
            <p:cNvPr id="105" name=""/>
            <p:cNvSpPr/>
            <p:nvPr/>
          </p:nvSpPr>
          <p:spPr>
            <a:xfrm>
              <a:off x="756000" y="501336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r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67640" y="541944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C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06C8-8A48-490B-BF89-D719E69B22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u’est ce qu’un fichier 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8440" y="1751040"/>
            <a:ext cx="78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fich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ordonné d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uns à la suite des autres, formant ainsi une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éhensible par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8080" y="121428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aractère = 1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22520" y="4797360"/>
            <a:ext cx="2272680" cy="955440"/>
            <a:chOff x="722520" y="4797360"/>
            <a:chExt cx="2272680" cy="955440"/>
          </a:xfrm>
        </p:grpSpPr>
        <p:sp>
          <p:nvSpPr>
            <p:cNvPr id="112" name=""/>
            <p:cNvSpPr/>
            <p:nvPr/>
          </p:nvSpPr>
          <p:spPr>
            <a:xfrm>
              <a:off x="722520" y="479736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ésig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09400" y="5232240"/>
              <a:ext cx="15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LeCid.t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440" y="3068640"/>
            <a:ext cx="8407440" cy="857160"/>
            <a:chOff x="685440" y="3068640"/>
            <a:chExt cx="8407440" cy="857160"/>
          </a:xfrm>
        </p:grpSpPr>
        <p:sp>
          <p:nvSpPr>
            <p:cNvPr id="115" name=""/>
            <p:cNvSpPr/>
            <p:nvPr/>
          </p:nvSpPr>
          <p:spPr>
            <a:xfrm>
              <a:off x="685440" y="30686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en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6080" y="3557520"/>
              <a:ext cx="78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1001100 0101000 10010100 11110010 00011100 00111000 0110001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7200" y="40543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prété par l’application adéquate pour être lisible par l’Ho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Ô râge ! Ô Désespoir ! Ô vieillesse ennemi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448000" y="5097600"/>
            <a:ext cx="990000" cy="914400"/>
            <a:chOff x="2448000" y="5097600"/>
            <a:chExt cx="990000" cy="914400"/>
          </a:xfrm>
        </p:grpSpPr>
        <p:sp>
          <p:nvSpPr>
            <p:cNvPr id="119" name=""/>
            <p:cNvSpPr/>
            <p:nvPr/>
          </p:nvSpPr>
          <p:spPr>
            <a:xfrm>
              <a:off x="2448000" y="5097600"/>
              <a:ext cx="533160" cy="914400"/>
            </a:xfrm>
            <a:prstGeom prst="ellipse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1160" y="5554800"/>
              <a:ext cx="45684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695400" y="5362560"/>
            <a:ext cx="50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Ext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désigne le type (le format) du fich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31080" y="5707080"/>
            <a:ext cx="662400" cy="1014480"/>
            <a:chOff x="1531080" y="5707080"/>
            <a:chExt cx="662400" cy="1014480"/>
          </a:xfrm>
        </p:grpSpPr>
        <p:sp>
          <p:nvSpPr>
            <p:cNvPr id="123" name=""/>
            <p:cNvSpPr/>
            <p:nvPr/>
          </p:nvSpPr>
          <p:spPr>
            <a:xfrm>
              <a:off x="1855800" y="5707080"/>
              <a:ext cx="0" cy="609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1080" y="635328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N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633C-F1A5-436B-8880-0E8BB10CC9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fichiers exécutabl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5200" y="1833480"/>
            <a:ext cx="81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Fichiers exécutab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ex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traitement de texte, tableur, logiciel messageri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440" y="1214280"/>
            <a:ext cx="85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elés aussi Programme, logiciel, application ou exécu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38440" y="5516640"/>
            <a:ext cx="2037240" cy="945360"/>
            <a:chOff x="838440" y="5516640"/>
            <a:chExt cx="2037240" cy="945360"/>
          </a:xfrm>
        </p:grpSpPr>
        <p:sp>
          <p:nvSpPr>
            <p:cNvPr id="130" name=""/>
            <p:cNvSpPr/>
            <p:nvPr/>
          </p:nvSpPr>
          <p:spPr>
            <a:xfrm>
              <a:off x="838440" y="551664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ésig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6040" y="60022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faire.</a:t>
              </a:r>
              <a:r>
                <a:rPr b="0" lang="fr-FR" sz="2400" spc="-1" strike="noStrike">
                  <a:solidFill>
                    <a:srgbClr val="cc0099"/>
                  </a:solidFill>
                  <a:latin typeface="Arial"/>
                </a:rPr>
                <a:t>ex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63200" y="2349360"/>
            <a:ext cx="8025120" cy="857160"/>
            <a:chOff x="763200" y="2349360"/>
            <a:chExt cx="8025120" cy="857160"/>
          </a:xfrm>
        </p:grpSpPr>
        <p:sp>
          <p:nvSpPr>
            <p:cNvPr id="133" name=""/>
            <p:cNvSpPr/>
            <p:nvPr/>
          </p:nvSpPr>
          <p:spPr>
            <a:xfrm>
              <a:off x="763200" y="234936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en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2838240"/>
              <a:ext cx="749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10011000101000100101001111001000011100001110000110001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258920" y="3213000"/>
            <a:ext cx="67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été par le Système d’Exploitation comme une suite d’instruct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e connecter au serveur de messag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mander le nom et le mot de passe de l’utilis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i utilisateur existe et bon mot pa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ors délivrer les 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on redemander le nom et le mot de p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54F6-4581-4C8E-A8CD-3AD808EC36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600200" y="2590920"/>
            <a:ext cx="6095880" cy="761760"/>
            <a:chOff x="1600200" y="2590920"/>
            <a:chExt cx="6095880" cy="761760"/>
          </a:xfrm>
        </p:grpSpPr>
        <p:sp>
          <p:nvSpPr>
            <p:cNvPr id="138" name=""/>
            <p:cNvSpPr/>
            <p:nvPr/>
          </p:nvSpPr>
          <p:spPr>
            <a:xfrm flipH="1">
              <a:off x="1600200" y="2590920"/>
              <a:ext cx="2743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657240" y="259092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43400" y="259092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43400" y="2590920"/>
              <a:ext cx="3352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dossier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Comparaison classique : BIBLIOTHE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4400" y="2063880"/>
            <a:ext cx="1854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hè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066680" y="3265560"/>
            <a:ext cx="7324560" cy="398880"/>
            <a:chOff x="1066680" y="3265560"/>
            <a:chExt cx="7324560" cy="398880"/>
          </a:xfrm>
        </p:grpSpPr>
        <p:sp>
          <p:nvSpPr>
            <p:cNvPr id="146" name=""/>
            <p:cNvSpPr/>
            <p:nvPr/>
          </p:nvSpPr>
          <p:spPr>
            <a:xfrm>
              <a:off x="1066680" y="3265560"/>
              <a:ext cx="10602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yon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54320" y="3265560"/>
              <a:ext cx="10602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yon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41960" y="3265560"/>
              <a:ext cx="10602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yon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31040" y="3265560"/>
              <a:ext cx="10602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yon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676520" y="4484520"/>
            <a:ext cx="2640960" cy="398880"/>
            <a:chOff x="1676520" y="4484520"/>
            <a:chExt cx="2640960" cy="398880"/>
          </a:xfrm>
        </p:grpSpPr>
        <p:sp>
          <p:nvSpPr>
            <p:cNvPr id="151" name=""/>
            <p:cNvSpPr/>
            <p:nvPr/>
          </p:nvSpPr>
          <p:spPr>
            <a:xfrm>
              <a:off x="1676520" y="4484520"/>
              <a:ext cx="121392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tagère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03560" y="4484520"/>
              <a:ext cx="121392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tagèr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286000" y="3755880"/>
            <a:ext cx="2666880" cy="762120"/>
            <a:chOff x="2286000" y="3755880"/>
            <a:chExt cx="2666880" cy="762120"/>
          </a:xfrm>
        </p:grpSpPr>
        <p:sp>
          <p:nvSpPr>
            <p:cNvPr id="154" name=""/>
            <p:cNvSpPr/>
            <p:nvPr/>
          </p:nvSpPr>
          <p:spPr>
            <a:xfrm flipH="1">
              <a:off x="2286000" y="3755880"/>
              <a:ext cx="1295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81280" y="37558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375588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47000" y="6100920"/>
            <a:ext cx="3319200" cy="368280"/>
            <a:chOff x="747000" y="6100920"/>
            <a:chExt cx="3319200" cy="368280"/>
          </a:xfrm>
        </p:grpSpPr>
        <p:sp>
          <p:nvSpPr>
            <p:cNvPr id="158" name=""/>
            <p:cNvSpPr/>
            <p:nvPr/>
          </p:nvSpPr>
          <p:spPr>
            <a:xfrm>
              <a:off x="747000" y="6100920"/>
              <a:ext cx="80100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r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5680" y="6100920"/>
              <a:ext cx="80100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r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63640" y="6100920"/>
              <a:ext cx="40932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01120" y="6100920"/>
              <a:ext cx="86508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r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142640" y="5029200"/>
            <a:ext cx="2438640" cy="1066680"/>
            <a:chOff x="1142640" y="5029200"/>
            <a:chExt cx="2438640" cy="1066680"/>
          </a:xfrm>
        </p:grpSpPr>
        <p:sp>
          <p:nvSpPr>
            <p:cNvPr id="163" name=""/>
            <p:cNvSpPr/>
            <p:nvPr/>
          </p:nvSpPr>
          <p:spPr>
            <a:xfrm flipH="1">
              <a:off x="1142640" y="5029200"/>
              <a:ext cx="10666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09680" y="50292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5029200"/>
              <a:ext cx="6098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9680" y="502920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257800" y="1905120"/>
            <a:ext cx="3222720" cy="459720"/>
            <a:chOff x="5257800" y="1905120"/>
            <a:chExt cx="3222720" cy="459720"/>
          </a:xfrm>
        </p:grpSpPr>
        <p:sp>
          <p:nvSpPr>
            <p:cNvPr id="168" name=""/>
            <p:cNvSpPr/>
            <p:nvPr/>
          </p:nvSpPr>
          <p:spPr>
            <a:xfrm flipH="1">
              <a:off x="5257800" y="2209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56320" y="190512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cine/Pè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rot="16200000">
            <a:off x="-1098360" y="36226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B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62120" y="3733920"/>
            <a:ext cx="838080" cy="1130040"/>
            <a:chOff x="762120" y="3733920"/>
            <a:chExt cx="838080" cy="1130040"/>
          </a:xfrm>
        </p:grpSpPr>
        <p:sp>
          <p:nvSpPr>
            <p:cNvPr id="173" name=""/>
            <p:cNvSpPr/>
            <p:nvPr/>
          </p:nvSpPr>
          <p:spPr>
            <a:xfrm>
              <a:off x="762120" y="4495680"/>
              <a:ext cx="83808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re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23880" y="3733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371600" y="2476440"/>
            <a:ext cx="7048080" cy="3018960"/>
            <a:chOff x="1371600" y="2476440"/>
            <a:chExt cx="7048080" cy="3018960"/>
          </a:xfrm>
        </p:grpSpPr>
        <p:grpSp>
          <p:nvGrpSpPr>
            <p:cNvPr id="176" name=""/>
            <p:cNvGrpSpPr/>
            <p:nvPr/>
          </p:nvGrpSpPr>
          <p:grpSpPr>
            <a:xfrm>
              <a:off x="2133720" y="2476440"/>
              <a:ext cx="6285960" cy="3018960"/>
              <a:chOff x="2133720" y="2476440"/>
              <a:chExt cx="6285960" cy="30189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133720" y="2476440"/>
                <a:ext cx="2311200" cy="2629080"/>
                <a:chOff x="2133720" y="2476440"/>
                <a:chExt cx="2311200" cy="26290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16320" y="2476440"/>
                  <a:ext cx="228600" cy="228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467160" y="3679920"/>
                  <a:ext cx="228600" cy="228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33720" y="4876920"/>
                  <a:ext cx="228600" cy="228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6443640" y="514368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748560" y="5035680"/>
                <a:ext cx="167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œud/Fil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1371600" y="36576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572000" y="4495680"/>
            <a:ext cx="9144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re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FF43-0CAC-4FC8-8DB2-BC79EECEBB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52280" y="3429000"/>
            <a:ext cx="1371600" cy="1447920"/>
            <a:chOff x="152280" y="3429000"/>
            <a:chExt cx="1371600" cy="1447920"/>
          </a:xfrm>
        </p:grpSpPr>
        <p:sp>
          <p:nvSpPr>
            <p:cNvPr id="186" name=""/>
            <p:cNvSpPr/>
            <p:nvPr/>
          </p:nvSpPr>
          <p:spPr>
            <a:xfrm>
              <a:off x="76212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Document"/>
            <p:cNvSpPr/>
            <p:nvPr/>
          </p:nvSpPr>
          <p:spPr>
            <a:xfrm>
              <a:off x="152280" y="4191120"/>
              <a:ext cx="1371600" cy="6858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D eco.d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124080" y="3429000"/>
            <a:ext cx="4038840" cy="1600200"/>
            <a:chOff x="3124080" y="3429000"/>
            <a:chExt cx="4038840" cy="1600200"/>
          </a:xfrm>
        </p:grpSpPr>
        <p:grpSp>
          <p:nvGrpSpPr>
            <p:cNvPr id="189" name=""/>
            <p:cNvGrpSpPr/>
            <p:nvPr/>
          </p:nvGrpSpPr>
          <p:grpSpPr>
            <a:xfrm>
              <a:off x="3124080" y="3429000"/>
              <a:ext cx="2666880" cy="762120"/>
              <a:chOff x="3124080" y="3429000"/>
              <a:chExt cx="2666880" cy="762120"/>
            </a:xfrm>
          </p:grpSpPr>
          <p:sp>
            <p:nvSpPr>
              <p:cNvPr id="190" name=""/>
              <p:cNvSpPr/>
              <p:nvPr/>
            </p:nvSpPr>
            <p:spPr>
              <a:xfrm flipH="1">
                <a:off x="3124080" y="3429000"/>
                <a:ext cx="129528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419360" y="342900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419360" y="3429000"/>
                <a:ext cx="137160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Document"/>
            <p:cNvSpPr/>
            <p:nvPr/>
          </p:nvSpPr>
          <p:spPr>
            <a:xfrm>
              <a:off x="5562720" y="4192560"/>
              <a:ext cx="1600200" cy="836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que générale.d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523520" y="4954680"/>
            <a:ext cx="2438640" cy="533160"/>
            <a:chOff x="1523520" y="4954680"/>
            <a:chExt cx="2438640" cy="533160"/>
          </a:xfrm>
        </p:grpSpPr>
        <p:sp>
          <p:nvSpPr>
            <p:cNvPr id="195" name=""/>
            <p:cNvSpPr/>
            <p:nvPr/>
          </p:nvSpPr>
          <p:spPr>
            <a:xfrm flipH="1">
              <a:off x="1523520" y="4954680"/>
              <a:ext cx="10666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90560" y="4954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90560" y="495468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90560" y="495468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1982880"/>
            <a:ext cx="6095880" cy="761760"/>
            <a:chOff x="685800" y="1982880"/>
            <a:chExt cx="6095880" cy="761760"/>
          </a:xfrm>
        </p:grpSpPr>
        <p:sp>
          <p:nvSpPr>
            <p:cNvPr id="200" name=""/>
            <p:cNvSpPr/>
            <p:nvPr/>
          </p:nvSpPr>
          <p:spPr>
            <a:xfrm flipH="1">
              <a:off x="685800" y="1982880"/>
              <a:ext cx="2743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742840" y="198288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9000" y="198288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29000" y="1982880"/>
              <a:ext cx="3352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52720" y="401760"/>
            <a:ext cx="669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dossier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File"/>
          <p:cNvSpPr/>
          <p:nvPr/>
        </p:nvSpPr>
        <p:spPr>
          <a:xfrm>
            <a:off x="2819520" y="992160"/>
            <a:ext cx="129528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2541600"/>
            <a:ext cx="7467120" cy="914400"/>
            <a:chOff x="0" y="2541600"/>
            <a:chExt cx="7467120" cy="914400"/>
          </a:xfrm>
        </p:grpSpPr>
        <p:sp>
          <p:nvSpPr>
            <p:cNvPr id="207" name="File"/>
            <p:cNvSpPr/>
            <p:nvPr/>
          </p:nvSpPr>
          <p:spPr>
            <a:xfrm>
              <a:off x="0" y="2541600"/>
              <a:ext cx="133596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Econom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ile"/>
            <p:cNvSpPr/>
            <p:nvPr/>
          </p:nvSpPr>
          <p:spPr>
            <a:xfrm>
              <a:off x="1886400" y="2541600"/>
              <a:ext cx="196524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hémat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ile"/>
            <p:cNvSpPr/>
            <p:nvPr/>
          </p:nvSpPr>
          <p:spPr>
            <a:xfrm>
              <a:off x="4008600" y="2541600"/>
              <a:ext cx="172944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ile"/>
            <p:cNvSpPr/>
            <p:nvPr/>
          </p:nvSpPr>
          <p:spPr>
            <a:xfrm>
              <a:off x="5895360" y="2541600"/>
              <a:ext cx="157176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57200" y="5487840"/>
            <a:ext cx="3977640" cy="1065240"/>
            <a:chOff x="457200" y="5487840"/>
            <a:chExt cx="3977640" cy="1065240"/>
          </a:xfrm>
        </p:grpSpPr>
        <p:grpSp>
          <p:nvGrpSpPr>
            <p:cNvPr id="212" name=""/>
            <p:cNvGrpSpPr/>
            <p:nvPr/>
          </p:nvGrpSpPr>
          <p:grpSpPr>
            <a:xfrm>
              <a:off x="457200" y="5487840"/>
              <a:ext cx="2819880" cy="1065240"/>
              <a:chOff x="457200" y="5487840"/>
              <a:chExt cx="2819880" cy="1065240"/>
            </a:xfrm>
          </p:grpSpPr>
          <p:sp>
            <p:nvSpPr>
              <p:cNvPr id="213" name="Document"/>
              <p:cNvSpPr/>
              <p:nvPr/>
            </p:nvSpPr>
            <p:spPr>
              <a:xfrm>
                <a:off x="457200" y="5487840"/>
                <a:ext cx="1219320" cy="1065240"/>
              </a:xfrm>
              <a:prstGeom prst="pie">
                <a:avLst/>
              </a:pr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indows et ses bugs.do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Document"/>
              <p:cNvSpPr/>
              <p:nvPr/>
            </p:nvSpPr>
            <p:spPr>
              <a:xfrm>
                <a:off x="1905480" y="5487840"/>
                <a:ext cx="1371600" cy="1065240"/>
              </a:xfrm>
              <a:prstGeom prst="pie">
                <a:avLst/>
              </a:pr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Linux et ses applis.t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3949200" y="5524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211640" y="1197000"/>
            <a:ext cx="3468240" cy="459720"/>
            <a:chOff x="4211640" y="1197000"/>
            <a:chExt cx="3468240" cy="459720"/>
          </a:xfrm>
        </p:grpSpPr>
        <p:sp>
          <p:nvSpPr>
            <p:cNvPr id="217" name=""/>
            <p:cNvSpPr/>
            <p:nvPr/>
          </p:nvSpPr>
          <p:spPr>
            <a:xfrm>
              <a:off x="5435640" y="1197000"/>
              <a:ext cx="22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Arial"/>
                </a:rPr>
                <a:t>Dossier Rac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1640" y="1494000"/>
              <a:ext cx="114300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623360" y="274320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ou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Doss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13400" y="55897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Fich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828800" y="4040280"/>
            <a:ext cx="3429000" cy="914400"/>
            <a:chOff x="1828800" y="4040280"/>
            <a:chExt cx="3429000" cy="914400"/>
          </a:xfrm>
        </p:grpSpPr>
        <p:sp>
          <p:nvSpPr>
            <p:cNvPr id="222" name="File"/>
            <p:cNvSpPr/>
            <p:nvPr/>
          </p:nvSpPr>
          <p:spPr>
            <a:xfrm>
              <a:off x="1828800" y="4040280"/>
              <a:ext cx="160020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èmes Explo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ile"/>
            <p:cNvSpPr/>
            <p:nvPr/>
          </p:nvSpPr>
          <p:spPr>
            <a:xfrm>
              <a:off x="3657600" y="4040280"/>
              <a:ext cx="160020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angages de prog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531680" y="616572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 L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563C-D1A7-46D6-8E24-C534C6042A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52280" y="3429000"/>
            <a:ext cx="1371600" cy="1447920"/>
            <a:chOff x="152280" y="3429000"/>
            <a:chExt cx="1371600" cy="1447920"/>
          </a:xfrm>
        </p:grpSpPr>
        <p:sp>
          <p:nvSpPr>
            <p:cNvPr id="227" name=""/>
            <p:cNvSpPr/>
            <p:nvPr/>
          </p:nvSpPr>
          <p:spPr>
            <a:xfrm>
              <a:off x="76212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Document"/>
            <p:cNvSpPr/>
            <p:nvPr/>
          </p:nvSpPr>
          <p:spPr>
            <a:xfrm>
              <a:off x="152280" y="4191120"/>
              <a:ext cx="1371600" cy="6858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D eco.d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24080" y="3429000"/>
            <a:ext cx="4038840" cy="1600200"/>
            <a:chOff x="3124080" y="3429000"/>
            <a:chExt cx="4038840" cy="1600200"/>
          </a:xfrm>
        </p:grpSpPr>
        <p:grpSp>
          <p:nvGrpSpPr>
            <p:cNvPr id="230" name=""/>
            <p:cNvGrpSpPr/>
            <p:nvPr/>
          </p:nvGrpSpPr>
          <p:grpSpPr>
            <a:xfrm>
              <a:off x="3124080" y="3429000"/>
              <a:ext cx="2666880" cy="762120"/>
              <a:chOff x="3124080" y="3429000"/>
              <a:chExt cx="2666880" cy="76212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124080" y="3429000"/>
                <a:ext cx="129528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419360" y="342900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19360" y="3429000"/>
                <a:ext cx="137160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Document"/>
            <p:cNvSpPr/>
            <p:nvPr/>
          </p:nvSpPr>
          <p:spPr>
            <a:xfrm>
              <a:off x="5562720" y="4192560"/>
              <a:ext cx="1600200" cy="836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que générale.d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H="1">
            <a:off x="1523880" y="495468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49546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495468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85800" y="198288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742840" y="19828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19828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52720" y="401760"/>
            <a:ext cx="669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s chemin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File"/>
          <p:cNvSpPr/>
          <p:nvPr/>
        </p:nvSpPr>
        <p:spPr>
          <a:xfrm>
            <a:off x="2819520" y="992160"/>
            <a:ext cx="129528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ile"/>
          <p:cNvSpPr/>
          <p:nvPr/>
        </p:nvSpPr>
        <p:spPr>
          <a:xfrm>
            <a:off x="0" y="2541600"/>
            <a:ext cx="133668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ile"/>
          <p:cNvSpPr/>
          <p:nvPr/>
        </p:nvSpPr>
        <p:spPr>
          <a:xfrm>
            <a:off x="1886040" y="2541600"/>
            <a:ext cx="196524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é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ile"/>
          <p:cNvSpPr/>
          <p:nvPr/>
        </p:nvSpPr>
        <p:spPr>
          <a:xfrm>
            <a:off x="4008600" y="2541600"/>
            <a:ext cx="173016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828800" y="4040280"/>
            <a:ext cx="3429000" cy="914400"/>
            <a:chOff x="1828800" y="4040280"/>
            <a:chExt cx="3429000" cy="914400"/>
          </a:xfrm>
        </p:grpSpPr>
        <p:sp>
          <p:nvSpPr>
            <p:cNvPr id="247" name="File"/>
            <p:cNvSpPr/>
            <p:nvPr/>
          </p:nvSpPr>
          <p:spPr>
            <a:xfrm>
              <a:off x="1828800" y="4040280"/>
              <a:ext cx="160020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èmes Explo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ile"/>
            <p:cNvSpPr/>
            <p:nvPr/>
          </p:nvSpPr>
          <p:spPr>
            <a:xfrm>
              <a:off x="3657600" y="4040280"/>
              <a:ext cx="1600200" cy="914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angages de prog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990720" y="3581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Chemin abso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57200" y="5487840"/>
            <a:ext cx="2820600" cy="1065240"/>
            <a:chOff x="457200" y="5487840"/>
            <a:chExt cx="2820600" cy="1065240"/>
          </a:xfrm>
        </p:grpSpPr>
        <p:sp>
          <p:nvSpPr>
            <p:cNvPr id="252" name="Document"/>
            <p:cNvSpPr/>
            <p:nvPr/>
          </p:nvSpPr>
          <p:spPr>
            <a:xfrm>
              <a:off x="457200" y="5487840"/>
              <a:ext cx="1219680" cy="10652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ndows et ses bugs.d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Document"/>
            <p:cNvSpPr/>
            <p:nvPr/>
          </p:nvSpPr>
          <p:spPr>
            <a:xfrm>
              <a:off x="1905840" y="5487840"/>
              <a:ext cx="1371960" cy="10652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inux et ses applis.t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8360" y="1982880"/>
            <a:ext cx="4332240" cy="4614840"/>
            <a:chOff x="468360" y="1982880"/>
            <a:chExt cx="4332240" cy="4614840"/>
          </a:xfrm>
        </p:grpSpPr>
        <p:sp>
          <p:nvSpPr>
            <p:cNvPr id="255" name=""/>
            <p:cNvSpPr/>
            <p:nvPr/>
          </p:nvSpPr>
          <p:spPr>
            <a:xfrm flipH="1">
              <a:off x="1523880" y="4954680"/>
              <a:ext cx="1067040" cy="53316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29000" y="1982880"/>
              <a:ext cx="1371600" cy="68580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123720" y="3430440"/>
              <a:ext cx="1295640" cy="76212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8360" y="5445000"/>
              <a:ext cx="1224000" cy="1152720"/>
            </a:xfrm>
            <a:prstGeom prst="rect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364000" y="1125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Chemin abso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depuis la ra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19640" y="5661000"/>
            <a:ext cx="57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blio 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\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\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èmesExploitation </a:t>
            </a:r>
            <a:r>
              <a:rPr b="0" lang="fr-FR" sz="2000" spc="-1" strike="noStrike">
                <a:solidFill>
                  <a:srgbClr val="cc0099"/>
                </a:solidFill>
                <a:latin typeface="Arial"/>
              </a:rPr>
              <a:t>\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indows et ses bugs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84A6-20A7-463D-9CC6-A52EAE4185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4:55:12Z</dcterms:created>
  <dc:creator>C2i - UT1</dc:creator>
  <dc:description/>
  <dc:language>en-US</dc:language>
  <cp:lastModifiedBy>UT1</cp:lastModifiedBy>
  <dcterms:modified xsi:type="dcterms:W3CDTF">2009-09-15T20:47:41Z</dcterms:modified>
  <cp:revision>158</cp:revision>
  <dc:subject/>
  <dc:title>Gestion des données</dc:title>
</cp:coreProperties>
</file>