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070C-58AE-4372-9A6A-2E4FAC600E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48A0-8FF4-402E-8318-DAF9FF9434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3CD-D2EF-450A-A70A-194BB1408C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7F2-9CCC-4F01-88CC-8AD31D299D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C141-903E-4209-AC4A-91D90F9051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953E-F7F0-4798-8E81-21E394073F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tten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à bien lire le contenu des boîtes de dialogue avant de valider les choix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C2EA-4F3A-4F77-8B94-8645A0B3D0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ans l‘exemple ci-dessus, la fenêtre dispose de 4 menus différents : menu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Fichier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Edi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, et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menu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Edi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est ouvert. Il propose différentes commandes possibl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i certaines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mmandes sont grisée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, alors cela signifie que ces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mmandes sont inactive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pour l‘objet sélectionné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 côté de certaines commandes, u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etit triangl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peut être présent. Ce triangle signifie qu‘un sous-menu est disponible. Il suffit de cliquer dessus pour le voir apparaît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 côté de certaines commandes sont présents des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accourci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qui permettent d’accéder aux menus sans la sour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oit des raccourcis clavier, les plus connus sont : ctrl+C, ctrl+V, ctrl+X ctrl+Z, ctrl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oit des touches de fon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A39A-DCD5-4B1B-AD77-949613252E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amps de saisi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sont des zones dans lesquelles, quand vous cliquez, un curseur apparaît et vous invite à saisir un tex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etite flèch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indique que l’on peut sélectionner du tex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s sont souvent accompagnés d’un bouton qui permet de valider la saisie. La touche entrée peut aussi faire la même ch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68A-1D1B-41C5-B4C4-30E40A0BB7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cô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logo avec un 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présence d'un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etite flèch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ésigne un raccour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peut personnaliser le bureau et mettre des applications directement accessibles sur le bur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nd on double-clique sur une icô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c’est une application, cela lance l’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c’est un document, cela ouvre l’application qui permet de visualiser le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C30E-9CA5-458C-BDEA-6DAC9CCFDB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vocabulaire, qu’on va utiliser dans les diapos suivantes, est valable pour toute interface graphique à quelques petites variations prè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D630-4550-4EAE-92DF-AD9715FC99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dit qu’un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enêtre est activ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qu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utilisateur peut directement travailler deda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fond du titre de palette est ble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fenêtre est en premier pl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n bouton dans la barre des tâches est enfonc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enêtre est inactiv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quand elle apparaît au second plan ou qu’elle n’apparaît pas du t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30F-20AC-417D-B924-D7A84545D9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A9A7-9EBA-42F7-882C-4C97AD8109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B5DB-7A3A-47BD-8811-8C05A377E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C910-C123-4C8C-AD0B-FFC4FE610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8242-FD6B-4CF1-8685-D5518A6CA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F0E6-942B-41E2-8424-162C6B08C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E9DF-A6B2-4C05-A103-38B286CFEA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11C3-4C8C-45B8-AE38-DE50D8D5F4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1B5F-3040-4BF0-84CC-BB062F38AE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7BCC-3C70-48C4-B39E-D6AB74E75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64C9-08EC-4068-BC95-A04A5888A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9063-A514-4D9F-9B21-4340E62710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CA03-C9A3-465A-A841-720F54F79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8FA3-9E92-41C2-A3E8-8A4F93D65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2663-FF6F-426D-9F9D-42B2B7E5A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3C3C-0A7B-48E2-9569-AC5560D23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15D2-EA3D-4B90-8C88-2A3C340991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EF53-4FD9-4D94-8129-60EB2352B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0896-2458-43A6-A150-158D6C282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BE33-A7A4-4AE6-B1EC-EADB0DDD6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D525-0EA0-4E6B-BF97-0411A14A8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A4F5-B364-41A1-BD60-58C450182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88E9-DA7C-445D-AD53-6C37534D2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0F40-1F9D-4F58-95F1-95F5AAF69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05CF-4501-4DCD-B842-7D75C2A69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F205-25DD-4599-A07B-24B60DB23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438D-37EC-45CB-89B1-D58D72687C7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FB3-01F9-45DD-BB9A-96D15F8EBB8B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1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7A6A-D40C-4AEE-80BF-D676FB268C37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terface graph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omaines B1 &amp; 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C:\Documents and Settings\Administrator\Desktop\C2I\cours IG\Images\windows\touchscreen.jpg"/>
          <p:cNvPicPr/>
          <p:nvPr/>
        </p:nvPicPr>
        <p:blipFill>
          <a:blip r:embed="rId1"/>
          <a:stretch/>
        </p:blipFill>
        <p:spPr>
          <a:xfrm>
            <a:off x="682560" y="3213000"/>
            <a:ext cx="1884600" cy="595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Administrator\Desktop\C2I\cours IG\Images\windows\Windows Vista Start Button_2.png"/>
          <p:cNvPicPr/>
          <p:nvPr/>
        </p:nvPicPr>
        <p:blipFill>
          <a:blip r:embed="rId2"/>
          <a:stretch/>
        </p:blipFill>
        <p:spPr>
          <a:xfrm>
            <a:off x="5784840" y="2928960"/>
            <a:ext cx="57312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:\Documents and Settings\Administrator\Desktop\C2I\cours IG\Images\windows\MS SC_Screenshot FoodBev App.jpg"/>
          <p:cNvPicPr/>
          <p:nvPr/>
        </p:nvPicPr>
        <p:blipFill>
          <a:blip r:embed="rId3"/>
          <a:stretch/>
        </p:blipFill>
        <p:spPr>
          <a:xfrm>
            <a:off x="6192720" y="4145040"/>
            <a:ext cx="26892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19C3-6B5A-4B49-B478-B2B9E5E98C60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889280" y="2928960"/>
            <a:ext cx="5572080" cy="32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 rot="10800000">
            <a:off x="1928880" y="1713960"/>
            <a:ext cx="557208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503880" y="1071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ad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2286000" y="3854520"/>
            <a:ext cx="49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 de naviguer dans une arborescence (dossiers, pages Web,…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d’afficher l’emplacement act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098-E1A8-4E4D-9BB3-E90B6F8728E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889280" y="5857920"/>
            <a:ext cx="557208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10800000">
            <a:off x="1928880" y="1713960"/>
            <a:ext cx="5572080" cy="121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9"/>
          <p:cNvCxnSpPr/>
          <p:nvPr/>
        </p:nvCxnSpPr>
        <p:spPr>
          <a:xfrm>
            <a:off x="1571400" y="5500440"/>
            <a:ext cx="28620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TextBox 10"/>
          <p:cNvSpPr/>
          <p:nvPr/>
        </p:nvSpPr>
        <p:spPr>
          <a:xfrm>
            <a:off x="291240" y="5072040"/>
            <a:ext cx="13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s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Callout 1 (Border and Accent Bar) 11"/>
          <p:cNvSpPr/>
          <p:nvPr/>
        </p:nvSpPr>
        <p:spPr>
          <a:xfrm flipH="1" rot="16200000">
            <a:off x="4142520" y="2786040"/>
            <a:ext cx="2857320" cy="314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80" y="15490"/>
                </a:moveTo>
                <a:lnTo>
                  <a:pt x="-831" y="13913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5259240" y="19288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 de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Callout 1 (Border and Accent Bar) 13"/>
          <p:cNvSpPr/>
          <p:nvPr/>
        </p:nvSpPr>
        <p:spPr>
          <a:xfrm rot="5400000">
            <a:off x="1642320" y="3500280"/>
            <a:ext cx="242892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01" y="23298"/>
                </a:moveTo>
                <a:lnTo>
                  <a:pt x="-1446" y="13066"/>
                </a:lnTo>
              </a:path>
              <a:path w="21600" h="21600">
                <a:moveTo>
                  <a:pt x="-1446" y="0"/>
                </a:moveTo>
                <a:lnTo>
                  <a:pt x="-1446" y="2160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860400" y="195732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et d’expl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7577640" y="5006880"/>
            <a:ext cx="13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s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1"/>
          <p:cNvCxnSpPr/>
          <p:nvPr/>
        </p:nvCxnSpPr>
        <p:spPr>
          <a:xfrm flipH="1" flipV="1">
            <a:off x="7357680" y="5142960"/>
            <a:ext cx="28656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ADC-8025-4494-93CF-4FA34597FC45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 rot="10800000">
            <a:off x="1928880" y="1713960"/>
            <a:ext cx="5572080" cy="41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652920" y="107172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E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8"/>
          <p:cNvSpPr/>
          <p:nvPr/>
        </p:nvSpPr>
        <p:spPr>
          <a:xfrm>
            <a:off x="2286000" y="38545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e des informations sur les éléments sélectionnés dans la fenê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0"/>
          <p:cNvSpPr/>
          <p:nvPr/>
        </p:nvSpPr>
        <p:spPr>
          <a:xfrm>
            <a:off x="3645720" y="10717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e 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3"/>
          <p:cNvSpPr/>
          <p:nvPr/>
        </p:nvSpPr>
        <p:spPr>
          <a:xfrm>
            <a:off x="3749760" y="62866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E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5"/>
          <p:cNvSpPr/>
          <p:nvPr/>
        </p:nvSpPr>
        <p:spPr>
          <a:xfrm>
            <a:off x="293040" y="1500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Callout 1 (Border and Accent Bar) 46"/>
          <p:cNvSpPr/>
          <p:nvPr/>
        </p:nvSpPr>
        <p:spPr>
          <a:xfrm>
            <a:off x="1928880" y="1968480"/>
            <a:ext cx="264312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65" y="-2947"/>
                </a:moveTo>
                <a:lnTo>
                  <a:pt x="-1042" y="5052"/>
                </a:lnTo>
              </a:path>
              <a:path w="21600" h="21600">
                <a:moveTo>
                  <a:pt x="-1042" y="0"/>
                </a:moveTo>
                <a:lnTo>
                  <a:pt x="-1042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Callout 1 (Border and Accent Bar) 48"/>
          <p:cNvSpPr/>
          <p:nvPr/>
        </p:nvSpPr>
        <p:spPr>
          <a:xfrm rot="5400000">
            <a:off x="4572000" y="-901800"/>
            <a:ext cx="214560" cy="550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15" y="619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Callout 1 (Border and Accent Bar) 49"/>
          <p:cNvSpPr/>
          <p:nvPr/>
        </p:nvSpPr>
        <p:spPr>
          <a:xfrm flipV="1" rot="16200000">
            <a:off x="4572000" y="3213720"/>
            <a:ext cx="214200" cy="550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15" y="619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Callout 1 (Border and Accent Bar) 50"/>
          <p:cNvSpPr/>
          <p:nvPr/>
        </p:nvSpPr>
        <p:spPr>
          <a:xfrm>
            <a:off x="1928880" y="2286000"/>
            <a:ext cx="5072040" cy="35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72" y="15485"/>
                </a:moveTo>
                <a:lnTo>
                  <a:pt x="-502" y="5653"/>
                </a:lnTo>
              </a:path>
              <a:path w="21600" h="21600">
                <a:moveTo>
                  <a:pt x="-502" y="0"/>
                </a:moveTo>
                <a:lnTo>
                  <a:pt x="-502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1"/>
          <p:cNvSpPr/>
          <p:nvPr/>
        </p:nvSpPr>
        <p:spPr>
          <a:xfrm>
            <a:off x="367560" y="228600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53"/>
          <p:cNvCxnSpPr/>
          <p:nvPr/>
        </p:nvCxnSpPr>
        <p:spPr>
          <a:xfrm flipV="1">
            <a:off x="1571400" y="4000320"/>
            <a:ext cx="2215080" cy="71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54"/>
          <p:cNvCxnSpPr/>
          <p:nvPr/>
        </p:nvCxnSpPr>
        <p:spPr>
          <a:xfrm>
            <a:off x="1571400" y="4714920"/>
            <a:ext cx="12150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59"/>
          <p:cNvSpPr/>
          <p:nvPr/>
        </p:nvSpPr>
        <p:spPr>
          <a:xfrm>
            <a:off x="82080" y="3857760"/>
            <a:ext cx="17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s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Callout 1 (Border and Accent Bar) 60"/>
          <p:cNvSpPr/>
          <p:nvPr/>
        </p:nvSpPr>
        <p:spPr>
          <a:xfrm flipH="1">
            <a:off x="1928160" y="2643120"/>
            <a:ext cx="53578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72" y="15485"/>
                </a:moveTo>
                <a:lnTo>
                  <a:pt x="-502" y="5653"/>
                </a:lnTo>
              </a:path>
              <a:path w="21600" h="21600">
                <a:moveTo>
                  <a:pt x="-502" y="0"/>
                </a:moveTo>
                <a:lnTo>
                  <a:pt x="-502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1"/>
          <p:cNvSpPr/>
          <p:nvPr/>
        </p:nvSpPr>
        <p:spPr>
          <a:xfrm>
            <a:off x="7512480" y="245592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Ad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Callout 1 (Border and Accent Bar) 62"/>
          <p:cNvSpPr/>
          <p:nvPr/>
        </p:nvSpPr>
        <p:spPr>
          <a:xfrm flipH="1">
            <a:off x="4071960" y="3000240"/>
            <a:ext cx="3000240" cy="278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80" y="16492"/>
                </a:moveTo>
                <a:lnTo>
                  <a:pt x="-29" y="13913"/>
                </a:lnTo>
              </a:path>
              <a:path w="21600" h="21600">
                <a:moveTo>
                  <a:pt x="-29" y="0"/>
                </a:moveTo>
                <a:lnTo>
                  <a:pt x="-29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3"/>
          <p:cNvSpPr/>
          <p:nvPr/>
        </p:nvSpPr>
        <p:spPr>
          <a:xfrm>
            <a:off x="7580520" y="464328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953-364B-45A6-BFCA-AB7DF1C60B6F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51B-B71C-49A5-BCD6-0D86F533E5E5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boîtes de dialog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l’échange d’informations entre une application et l’utilisat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C:\Documents and Settings\Administrator\Desktop\C2I\cours IG\Images\dialogue-suppression.PNG"/>
          <p:cNvPicPr/>
          <p:nvPr/>
        </p:nvPicPr>
        <p:blipFill>
          <a:blip r:embed="rId1"/>
          <a:stretch/>
        </p:blipFill>
        <p:spPr>
          <a:xfrm>
            <a:off x="357120" y="3529080"/>
            <a:ext cx="3990960" cy="12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Documents and Settings\Administrator\Desktop\C2I\cours IG\Images\dialogue-arret.PNG"/>
          <p:cNvPicPr/>
          <p:nvPr/>
        </p:nvPicPr>
        <p:blipFill>
          <a:blip r:embed="rId2"/>
          <a:stretch/>
        </p:blipFill>
        <p:spPr>
          <a:xfrm>
            <a:off x="4714920" y="3143160"/>
            <a:ext cx="398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043-C3E3-4E94-B4E8-79347878658F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ôles graphiqu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nu permet de proposer à l‘utilisateur un ensemble d‘actions ou de commandes possi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C:\Documents and Settings\Administrator\Desktop\C2I\cours IG\Images\menus.PNG"/>
          <p:cNvPicPr/>
          <p:nvPr/>
        </p:nvPicPr>
        <p:blipFill>
          <a:blip r:embed="rId1"/>
          <a:stretch/>
        </p:blipFill>
        <p:spPr>
          <a:xfrm>
            <a:off x="2030400" y="2567160"/>
            <a:ext cx="51195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C43-D00E-4BFC-905F-F8730FC21FB0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trôles graphiqu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res contrôles 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0" descr="C:\Documents and Settings\Administrator\Desktop\C2I\cours IG\Images\radios.PNG"/>
          <p:cNvPicPr/>
          <p:nvPr/>
        </p:nvPicPr>
        <p:blipFill>
          <a:blip r:embed="rId1"/>
          <a:stretch/>
        </p:blipFill>
        <p:spPr>
          <a:xfrm>
            <a:off x="819000" y="3714840"/>
            <a:ext cx="324000" cy="1071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C:\Documents and Settings\Administrator\Desktop\C2I\cours IG\Images\zone_saisie.PNG"/>
          <p:cNvPicPr/>
          <p:nvPr/>
        </p:nvPicPr>
        <p:blipFill>
          <a:blip r:embed="rId2"/>
          <a:stretch/>
        </p:blipFill>
        <p:spPr>
          <a:xfrm>
            <a:off x="714240" y="2641680"/>
            <a:ext cx="2600640" cy="358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Administrator\Desktop\C2I\cours IG\Images\cases.PNG"/>
          <p:cNvPicPr/>
          <p:nvPr/>
        </p:nvPicPr>
        <p:blipFill>
          <a:blip r:embed="rId3"/>
          <a:stretch/>
        </p:blipFill>
        <p:spPr>
          <a:xfrm>
            <a:off x="857160" y="5354640"/>
            <a:ext cx="303480" cy="12891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423000" y="21747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p de sai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35960" y="32860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ou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426600" y="49291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à co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4214880" y="23558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de la sa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ton ou 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3714840" y="385776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x ent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ieurs possi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3900960" y="450216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e seule est sélection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790440" y="5643720"/>
            <a:ext cx="36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x bin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hoix validé, si la case est coch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8"/>
          <p:cNvSpPr/>
          <p:nvPr/>
        </p:nvSpPr>
        <p:spPr>
          <a:xfrm>
            <a:off x="470520" y="3643200"/>
            <a:ext cx="16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    Choix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    Choix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    Choix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9"/>
          <p:cNvSpPr/>
          <p:nvPr/>
        </p:nvSpPr>
        <p:spPr>
          <a:xfrm>
            <a:off x="382320" y="5251320"/>
            <a:ext cx="172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Choix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Choix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Choix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Choi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8FFA-F84B-420C-8340-26A5D55E73C4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 barre des tâch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395280" y="2924280"/>
            <a:ext cx="46188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24920" y="258768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ton Démar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311120" y="3924360"/>
            <a:ext cx="403560" cy="64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800" y="4498920"/>
            <a:ext cx="394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e de lancement ra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ès rapide à certaines application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plus utili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 flipV="1" rot="5400000">
            <a:off x="5357880" y="208440"/>
            <a:ext cx="285480" cy="7286760"/>
          </a:xfrm>
          <a:custGeom>
            <a:avLst/>
            <a:gdLst>
              <a:gd name="textAreaLeft" fmla="*/ 0 w 285480"/>
              <a:gd name="textAreaRight" fmla="*/ 102960 w 285480"/>
              <a:gd name="textAreaTop" fmla="*/ 167400 h 7286760"/>
              <a:gd name="textAreaBottom" fmla="*/ 7119360 h 728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4"/>
                  <a:pt x="10800" y="1588"/>
                </a:cubicBezTo>
                <a:lnTo>
                  <a:pt x="10800" y="9212"/>
                </a:lnTo>
                <a:cubicBezTo>
                  <a:pt x="10800" y="10006"/>
                  <a:pt x="16200" y="10800"/>
                  <a:pt x="21600" y="10800"/>
                </a:cubicBezTo>
                <a:cubicBezTo>
                  <a:pt x="16200" y="10800"/>
                  <a:pt x="10800" y="11594"/>
                  <a:pt x="10800" y="12388"/>
                </a:cubicBezTo>
                <a:lnTo>
                  <a:pt x="10800" y="20012"/>
                </a:lnTo>
                <a:cubicBezTo>
                  <a:pt x="10800" y="2080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5500800" y="3995640"/>
            <a:ext cx="642960" cy="85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572000" y="4853160"/>
            <a:ext cx="3575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 d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lications en cours d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 rot="5400000">
            <a:off x="8534880" y="2743920"/>
            <a:ext cx="145800" cy="1071720"/>
          </a:xfrm>
          <a:custGeom>
            <a:avLst/>
            <a:gdLst>
              <a:gd name="textAreaLeft" fmla="*/ 93240 w 145800"/>
              <a:gd name="textAreaRight" fmla="*/ 146160 w 145800"/>
              <a:gd name="textAreaTop" fmla="*/ 37800 h 1071720"/>
              <a:gd name="textAreaBottom" fmla="*/ 10339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4"/>
                  <a:pt x="10800" y="2448"/>
                </a:cubicBezTo>
                <a:lnTo>
                  <a:pt x="10800" y="8352"/>
                </a:lnTo>
                <a:cubicBezTo>
                  <a:pt x="10800" y="9576"/>
                  <a:pt x="5400" y="10800"/>
                  <a:pt x="0" y="10800"/>
                </a:cubicBezTo>
                <a:cubicBezTo>
                  <a:pt x="5400" y="10800"/>
                  <a:pt x="10800" y="12024"/>
                  <a:pt x="10800" y="13248"/>
                </a:cubicBezTo>
                <a:lnTo>
                  <a:pt x="10800" y="19152"/>
                </a:lnTo>
                <a:cubicBezTo>
                  <a:pt x="10800" y="203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 flipH="1" flipV="1">
            <a:off x="7227360" y="2280960"/>
            <a:ext cx="1357560" cy="92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202000" y="156672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en cours d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" descr="C:\Documents and Settings\Administrator\Desktop\C2I\cours IG\Images\barre-taches-complete-grande.PNG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74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7"/>
          <p:cNvSpPr/>
          <p:nvPr/>
        </p:nvSpPr>
        <p:spPr>
          <a:xfrm>
            <a:off x="500040" y="1638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en cours d’exécu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or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 rot="16200000">
            <a:off x="4364640" y="559440"/>
            <a:ext cx="342720" cy="5357880"/>
          </a:xfrm>
          <a:custGeom>
            <a:avLst/>
            <a:gdLst>
              <a:gd name="textAreaLeft" fmla="*/ 0 w 342720"/>
              <a:gd name="textAreaRight" fmla="*/ 123840 w 342720"/>
              <a:gd name="textAreaTop" fmla="*/ 200880 h 5357880"/>
              <a:gd name="textAreaBottom" fmla="*/ 51570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6"/>
                  <a:pt x="10800" y="2592"/>
                </a:cubicBezTo>
                <a:lnTo>
                  <a:pt x="10800" y="8208"/>
                </a:lnTo>
                <a:cubicBezTo>
                  <a:pt x="10800" y="9504"/>
                  <a:pt x="16200" y="10800"/>
                  <a:pt x="21600" y="10800"/>
                </a:cubicBezTo>
                <a:cubicBezTo>
                  <a:pt x="16200" y="10800"/>
                  <a:pt x="10800" y="12096"/>
                  <a:pt x="10800" y="13392"/>
                </a:cubicBezTo>
                <a:lnTo>
                  <a:pt x="10800" y="19008"/>
                </a:lnTo>
                <a:cubicBezTo>
                  <a:pt x="10800" y="2030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 flipV="1" rot="5400000">
            <a:off x="1238040" y="3305160"/>
            <a:ext cx="176400" cy="1062000"/>
          </a:xfrm>
          <a:custGeom>
            <a:avLst/>
            <a:gdLst>
              <a:gd name="textAreaLeft" fmla="*/ 0 w 176400"/>
              <a:gd name="textAreaRight" fmla="*/ 63720 w 176400"/>
              <a:gd name="textAreaTop" fmla="*/ 103320 h 1062000"/>
              <a:gd name="textAreaBottom" fmla="*/ 95868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60"/>
                  <a:pt x="10800" y="6720"/>
                </a:cubicBezTo>
                <a:lnTo>
                  <a:pt x="10800" y="4080"/>
                </a:lnTo>
                <a:cubicBezTo>
                  <a:pt x="10800" y="7440"/>
                  <a:pt x="16200" y="10800"/>
                  <a:pt x="21600" y="10800"/>
                </a:cubicBezTo>
                <a:cubicBezTo>
                  <a:pt x="16200" y="10800"/>
                  <a:pt x="10800" y="14160"/>
                  <a:pt x="10800" y="17520"/>
                </a:cubicBezTo>
                <a:lnTo>
                  <a:pt x="10800" y="14880"/>
                </a:lnTo>
                <a:cubicBezTo>
                  <a:pt x="10800" y="1824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42800" y="2280960"/>
            <a:ext cx="1389240" cy="78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23AB-96A6-42CA-923E-08AB3C932031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 menu Démarrer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641040" y="4359240"/>
            <a:ext cx="54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écution d’un programme par une com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609720" y="471492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emple :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alc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lance la calcul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631680" y="399240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e en lign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3633840" y="2892600"/>
            <a:ext cx="37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 récemment ou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3662280" y="252900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s préfé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3679200" y="3625920"/>
            <a:ext cx="44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des fichiers, documen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3634200" y="32590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glages de l’ordin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0" descr="C:\Documents and Settings\Administrator\Desktop\C2I\cours IG\Images\menu-demarrage.PNG"/>
          <p:cNvPicPr/>
          <p:nvPr/>
        </p:nvPicPr>
        <p:blipFill>
          <a:blip r:embed="rId1"/>
          <a:stretch/>
        </p:blipFill>
        <p:spPr>
          <a:xfrm>
            <a:off x="357120" y="1643040"/>
            <a:ext cx="3148200" cy="4429080"/>
          </a:xfrm>
          <a:prstGeom prst="rect">
            <a:avLst/>
          </a:prstGeom>
          <a:ln w="0">
            <a:noFill/>
          </a:ln>
        </p:spPr>
      </p:pic>
      <p:sp>
        <p:nvSpPr>
          <p:cNvPr id="267" name="Straight Connector 17"/>
          <p:cNvSpPr/>
          <p:nvPr/>
        </p:nvSpPr>
        <p:spPr>
          <a:xfrm>
            <a:off x="857160" y="2927520"/>
            <a:ext cx="6286680" cy="144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9"/>
          <p:cNvSpPr/>
          <p:nvPr/>
        </p:nvSpPr>
        <p:spPr>
          <a:xfrm>
            <a:off x="857160" y="3284640"/>
            <a:ext cx="6286680" cy="144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0"/>
          <p:cNvSpPr/>
          <p:nvPr/>
        </p:nvSpPr>
        <p:spPr>
          <a:xfrm>
            <a:off x="857160" y="3641760"/>
            <a:ext cx="6286680" cy="144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21"/>
          <p:cNvSpPr/>
          <p:nvPr/>
        </p:nvSpPr>
        <p:spPr>
          <a:xfrm>
            <a:off x="857160" y="3998880"/>
            <a:ext cx="6286680" cy="180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22"/>
          <p:cNvSpPr/>
          <p:nvPr/>
        </p:nvSpPr>
        <p:spPr>
          <a:xfrm>
            <a:off x="857160" y="4357800"/>
            <a:ext cx="6286680" cy="144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3"/>
          <p:cNvSpPr/>
          <p:nvPr/>
        </p:nvSpPr>
        <p:spPr>
          <a:xfrm>
            <a:off x="857160" y="4714920"/>
            <a:ext cx="6286680" cy="144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7E58-2554-4BE1-A93C-56CF75D24AB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 menu Démarrer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0" descr="C:\Documents and Settings\Administrator\Desktop\C2I\cours IG\Images\menu-demarrage.PNG"/>
          <p:cNvPicPr/>
          <p:nvPr/>
        </p:nvPicPr>
        <p:blipFill>
          <a:blip r:embed="rId1"/>
          <a:stretch/>
        </p:blipFill>
        <p:spPr>
          <a:xfrm>
            <a:off x="357120" y="1643040"/>
            <a:ext cx="3148200" cy="442908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21"/>
          <p:cNvGrpSpPr/>
          <p:nvPr/>
        </p:nvGrpSpPr>
        <p:grpSpPr>
          <a:xfrm>
            <a:off x="2143080" y="1981080"/>
            <a:ext cx="6281280" cy="3581280"/>
            <a:chOff x="2143080" y="1981080"/>
            <a:chExt cx="6281280" cy="3581280"/>
          </a:xfrm>
        </p:grpSpPr>
        <p:pic>
          <p:nvPicPr>
            <p:cNvPr id="278" name="Picture 7" descr="deconnect_hum"/>
            <p:cNvPicPr/>
            <p:nvPr/>
          </p:nvPicPr>
          <p:blipFill>
            <a:blip r:embed="rId2"/>
            <a:stretch/>
          </p:blipFill>
          <p:spPr>
            <a:xfrm>
              <a:off x="4428720" y="1981080"/>
              <a:ext cx="399564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Line 20"/>
            <p:cNvSpPr/>
            <p:nvPr/>
          </p:nvSpPr>
          <p:spPr>
            <a:xfrm flipV="1">
              <a:off x="2143080" y="4142880"/>
              <a:ext cx="2214720" cy="1072080"/>
            </a:xfrm>
            <a:prstGeom prst="line">
              <a:avLst/>
            </a:prstGeom>
            <a:ln w="38160">
              <a:solidFill>
                <a:srgbClr val="a3a3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EEA-F1A0-4913-A862-2784A4CA1680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face graph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interface graphique permet à l'utilisateur d'interagir, à l'aide d'un dispositif de pointage, avec des représentations graphiques des données et des commandes (icônes, boutons, menu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kde"/>
          <p:cNvPicPr/>
          <p:nvPr/>
        </p:nvPicPr>
        <p:blipFill>
          <a:blip r:embed="rId1"/>
          <a:stretch/>
        </p:blipFill>
        <p:spPr>
          <a:xfrm>
            <a:off x="430200" y="3286080"/>
            <a:ext cx="3998880" cy="300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Administrator\Desktop\C2I\cours IG\Images\windows\vista_transformation_pack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401-A24F-4576-8811-A1E3C94218C7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face graph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nctions des éléments de l’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til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sation de données, d’inform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eu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d’opérations à réalise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utons de commande,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sation de l’interface : déplacement de fenêtre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F39-57C4-4903-8B36-F118EF1CFC06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face graph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vironnement de travail intégr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u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space de travail de base, qui s’affiche au démarrage pour donner accès aux différents fichiers et applications de l’ordin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objets 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ettent d’accéder à des applications et de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cô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enê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oîtes de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ôles 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ettent l’interaction avec l’utilis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us déroula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ou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one de sai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28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5" descr="C:\Documents and Settings\Administrator\Desktop\C2I\cours IG\Images\bureau.PNG"/>
          <p:cNvPicPr/>
          <p:nvPr/>
        </p:nvPicPr>
        <p:blipFill>
          <a:blip r:embed="rId1"/>
          <a:stretch/>
        </p:blipFill>
        <p:spPr>
          <a:xfrm>
            <a:off x="1428840" y="2000160"/>
            <a:ext cx="6643440" cy="456408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6A0-DA76-4D9B-8EC9-15B494EB9CF1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 bureau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10960" y="34290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ô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2058120" y="1268280"/>
            <a:ext cx="54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ureau est un espace de travail personnali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ermet de piloter et de gérer son ordin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3797640" y="555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e des t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Callout 2 (Accent Bar) 27"/>
          <p:cNvSpPr/>
          <p:nvPr/>
        </p:nvSpPr>
        <p:spPr>
          <a:xfrm>
            <a:off x="3500280" y="3000240"/>
            <a:ext cx="2214720" cy="428760"/>
          </a:xfr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eft Brace 29"/>
          <p:cNvSpPr/>
          <p:nvPr/>
        </p:nvSpPr>
        <p:spPr>
          <a:xfrm rot="5400000">
            <a:off x="4642920" y="3000240"/>
            <a:ext cx="214560" cy="60721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6072120"/>
              <a:gd name="textAreaBottom" fmla="*/ 606672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"/>
                  <a:pt x="10800" y="64"/>
                </a:cubicBezTo>
                <a:lnTo>
                  <a:pt x="10800" y="10736"/>
                </a:lnTo>
                <a:cubicBezTo>
                  <a:pt x="10800" y="10768"/>
                  <a:pt x="5400" y="10800"/>
                  <a:pt x="0" y="10800"/>
                </a:cubicBezTo>
                <a:cubicBezTo>
                  <a:pt x="5400" y="10800"/>
                  <a:pt x="10800" y="10832"/>
                  <a:pt x="10800" y="10864"/>
                </a:cubicBezTo>
                <a:lnTo>
                  <a:pt x="10800" y="21536"/>
                </a:lnTo>
                <a:cubicBezTo>
                  <a:pt x="10800" y="215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e 30"/>
          <p:cNvSpPr/>
          <p:nvPr/>
        </p:nvSpPr>
        <p:spPr>
          <a:xfrm>
            <a:off x="1143000" y="2000160"/>
            <a:ext cx="223920" cy="34290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3429000"/>
              <a:gd name="textAreaBottom" fmla="*/ 34232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Callout 2 (Accent Bar) 31"/>
          <p:cNvSpPr/>
          <p:nvPr/>
        </p:nvSpPr>
        <p:spPr>
          <a:xfrm>
            <a:off x="3500280" y="4500720"/>
            <a:ext cx="2214720" cy="428400"/>
          </a:xfr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be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Callout 2 (Accent Bar) 32"/>
          <p:cNvSpPr/>
          <p:nvPr/>
        </p:nvSpPr>
        <p:spPr>
          <a:xfrm>
            <a:off x="3500280" y="2143080"/>
            <a:ext cx="2214720" cy="428760"/>
          </a:xfr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xplorateur de fich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B64-B30D-4643-B835-FCA271406A9B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4"/>
          <p:cNvSpPr/>
          <p:nvPr/>
        </p:nvSpPr>
        <p:spPr>
          <a:xfrm>
            <a:off x="1889280" y="1928880"/>
            <a:ext cx="5572080" cy="421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645000" y="10717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e 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716400" y="1714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Callout 1 (Border and Accent Bar) 7"/>
          <p:cNvSpPr/>
          <p:nvPr/>
        </p:nvSpPr>
        <p:spPr>
          <a:xfrm>
            <a:off x="1928880" y="1741320"/>
            <a:ext cx="21420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330" y="16954"/>
                </a:moveTo>
                <a:lnTo>
                  <a:pt x="-10816" y="4000"/>
                </a:lnTo>
              </a:path>
              <a:path w="21600" h="21600">
                <a:moveTo>
                  <a:pt x="-10816" y="0"/>
                </a:moveTo>
                <a:lnTo>
                  <a:pt x="-10816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Callout 1 (Border and Accent Bar) 8"/>
          <p:cNvSpPr/>
          <p:nvPr/>
        </p:nvSpPr>
        <p:spPr>
          <a:xfrm rot="16200000">
            <a:off x="3084480" y="825480"/>
            <a:ext cx="223920" cy="20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7374" y="-5928"/>
                </a:moveTo>
                <a:lnTo>
                  <a:pt x="-3224" y="7916"/>
                </a:lnTo>
              </a:path>
              <a:path w="21600" h="21600">
                <a:moveTo>
                  <a:pt x="-3224" y="0"/>
                </a:moveTo>
                <a:lnTo>
                  <a:pt x="-3224" y="21600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681120" y="31305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r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 du fichier ouver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Callout 1 (Border and Accent Bar) 11"/>
          <p:cNvSpPr/>
          <p:nvPr/>
        </p:nvSpPr>
        <p:spPr>
          <a:xfrm rot="16200000">
            <a:off x="5286240" y="1766520"/>
            <a:ext cx="1429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0440" y="-37808"/>
                </a:moveTo>
                <a:lnTo>
                  <a:pt x="-9814" y="16071"/>
                </a:lnTo>
              </a:path>
              <a:path w="21600" h="21600">
                <a:moveTo>
                  <a:pt x="-9814" y="0"/>
                </a:moveTo>
                <a:lnTo>
                  <a:pt x="-9814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3789000" y="2639880"/>
            <a:ext cx="2216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eur de la b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leue 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netre 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Gri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: si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Callout 1 (Border and Accent Bar) 13"/>
          <p:cNvSpPr/>
          <p:nvPr/>
        </p:nvSpPr>
        <p:spPr>
          <a:xfrm flipH="1" rot="5400000">
            <a:off x="7000920" y="1512360"/>
            <a:ext cx="21420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8522" y="11389"/>
                </a:moveTo>
                <a:lnTo>
                  <a:pt x="-5807" y="4000"/>
                </a:lnTo>
              </a:path>
              <a:path w="21600" h="21600">
                <a:moveTo>
                  <a:pt x="-5807" y="0"/>
                </a:moveTo>
                <a:lnTo>
                  <a:pt x="-5807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3B50-5A73-48DA-8085-61BA467EF741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5715000" y="3571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tons de manip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:\Documents and Settings\Administrator\Desktop\C2I\cours IG\Images\icone-fermer.PNG"/>
          <p:cNvPicPr/>
          <p:nvPr/>
        </p:nvPicPr>
        <p:blipFill>
          <a:blip r:embed="rId2"/>
          <a:stretch/>
        </p:blipFill>
        <p:spPr>
          <a:xfrm>
            <a:off x="5857920" y="5500800"/>
            <a:ext cx="244440" cy="21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Documents and Settings\Administrator\Desktop\C2I\cours IG\Images\icone-reduire.PNG"/>
          <p:cNvPicPr/>
          <p:nvPr/>
        </p:nvPicPr>
        <p:blipFill>
          <a:blip r:embed="rId3"/>
          <a:stretch/>
        </p:blipFill>
        <p:spPr>
          <a:xfrm>
            <a:off x="5857920" y="4143240"/>
            <a:ext cx="233280" cy="20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:\Documents and Settings\Administrator\Desktop\C2I\cours IG\Images\icone-agrandir.PNG"/>
          <p:cNvPicPr/>
          <p:nvPr/>
        </p:nvPicPr>
        <p:blipFill>
          <a:blip r:embed="rId4"/>
          <a:stretch/>
        </p:blipFill>
        <p:spPr>
          <a:xfrm>
            <a:off x="5861160" y="4572000"/>
            <a:ext cx="25380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Documents and Settings\Administrator\Desktop\C2I\cours IG\Images\icone-restaurer.PNG"/>
          <p:cNvPicPr/>
          <p:nvPr/>
        </p:nvPicPr>
        <p:blipFill>
          <a:blip r:embed="rId5"/>
          <a:stretch/>
        </p:blipFill>
        <p:spPr>
          <a:xfrm>
            <a:off x="5867280" y="5000760"/>
            <a:ext cx="244440" cy="2142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2"/>
          <p:cNvSpPr/>
          <p:nvPr/>
        </p:nvSpPr>
        <p:spPr>
          <a:xfrm>
            <a:off x="6251040" y="407196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uire la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6251400" y="452916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andir (au maxim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6"/>
          <p:cNvSpPr/>
          <p:nvPr/>
        </p:nvSpPr>
        <p:spPr>
          <a:xfrm>
            <a:off x="6219720" y="54500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mer la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9"/>
          <p:cNvSpPr/>
          <p:nvPr/>
        </p:nvSpPr>
        <p:spPr>
          <a:xfrm>
            <a:off x="6250320" y="49546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a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E79-FC4D-4695-8EE3-E8A5348F136C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889280" y="2214720"/>
            <a:ext cx="5572080" cy="39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 rot="10800000">
            <a:off x="1928880" y="1714320"/>
            <a:ext cx="557208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3555360" y="10717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e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8"/>
          <p:cNvSpPr/>
          <p:nvPr/>
        </p:nvSpPr>
        <p:spPr>
          <a:xfrm>
            <a:off x="2286000" y="38545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 de choisir les opérations à effec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a fenêtre ou sur les objets qu’elle con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enê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24" descr="C:\Documents and Settings\Administrator\Desktop\C2I\cours IG\Images\fenetre-diapos.PNG"/>
          <p:cNvPicPr/>
          <p:nvPr/>
        </p:nvPicPr>
        <p:blipFill>
          <a:blip r:embed="rId1"/>
          <a:stretch/>
        </p:blipFill>
        <p:spPr>
          <a:xfrm>
            <a:off x="1903320" y="171468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CA46-EFA4-49D8-A174-2DDBC4B12B46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889280" y="2643120"/>
            <a:ext cx="5572080" cy="350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 rot="10800000">
            <a:off x="1928880" y="1713960"/>
            <a:ext cx="557208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647160" y="10717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8"/>
          <p:cNvSpPr/>
          <p:nvPr/>
        </p:nvSpPr>
        <p:spPr>
          <a:xfrm>
            <a:off x="2286000" y="38545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t un ensemble de raccourcis vers les commandes les plus utili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6:04:25Z</dcterms:created>
  <dc:creator>C2i - UT1</dc:creator>
  <dc:description/>
  <dc:language>en-US</dc:language>
  <cp:lastModifiedBy>CRI</cp:lastModifiedBy>
  <dcterms:modified xsi:type="dcterms:W3CDTF">2008-09-18T20:32:07Z</dcterms:modified>
  <cp:revision>77</cp:revision>
  <dc:subject/>
  <dc:title>Présentation PowerPoint</dc:title>
</cp:coreProperties>
</file>