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9970-0396-4B28-BA8E-C966F85292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rapidité, économie, interactiv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 2005, il y a 700 millions d‘utilisateurs du courrier électroniq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 France, il y a environ 25 millions d‘utilisateurs du courrier électronique, chacun possédant en moyenne deux adresses électroniques. Il s‘échange en moyenne 5,5 millions de courriers électroniques par j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ailler la notion d’adresse en fonction de ce qui est vu dans le cours sous M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r le détail sur le cours sou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ur dire qu’ils peuvent avoir les d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r le détail sur le cours sou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ur dire qu’ils peuvent avoir les d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pliquer au tableau comment marche une adres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.prenom@domaine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pliquer ce qu’est un domaine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.f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A92C-A297-4EC5-8E55-BCD869072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75DD-3BEB-4B26-8A8F-4575C32B9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B401-0C1B-40E0-9B1F-754D9AA97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8153-8C90-458E-980E-2442A6E04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EF67-1649-4C3A-8DE4-E7A050AE9A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0532-6805-44E3-A934-A824FDDEA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ED94-FCF3-48DC-84DB-C3623DE37A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06E6-931F-40D7-86EE-26A7E8FC8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E0FE-CA79-4651-834B-01AE64B50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B840-23B0-48F4-91C6-BDAF1F4185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7304-BA9C-4EA4-8757-DF329F0ED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FE43-A6CB-4ED1-B8E1-17F6C0E3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31EE-0693-4D4F-8037-FE22809E2A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379E-CE13-486E-B092-9E7F925DAE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6028-6386-486B-9229-583B4BCDB1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6AB4-D070-4778-9924-3DD0A330F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20F2-D50F-4A9D-A85D-4C3298F5B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7EAB-BE07-4AB3-9B32-14E0FBDA9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C3BF-7FA9-4486-8EDF-AFD42EB80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738F-3888-4C5A-8FAF-AE1B684CF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F0A8-135C-47E7-8575-CA42663AD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6DA3-4DBA-4E4F-BC0F-23FE405E5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DB60-CC5E-47DC-98E3-4A0C6192B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8230-2CCA-4830-BF5D-C297C005F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216-6E30-448F-8C93-165C0B84FD99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82440"/>
          <a:ext cx="21956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2195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005-2ED6-4B1A-BD78-6C7DA226D0E6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e courrier électro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omaine B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4062-404C-4470-9A88-41F1020ACE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quoi ça sert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3087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 permet d’envoyer du courrier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utilisateurs dista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d’en rec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id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ques chiff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France, 25 millions d‘utilisateurs du courrier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adresses par pers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5,5 millions de courriels par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6F53-9167-481A-9599-7BF03C5FF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6766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elques termes à connaîtr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informatisé qu‘un utilisateur saisit, envoie ou consulte en différé par l‘intermédiaire d‘une adresse de courrier électronique sur le réseau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esse de courrier électro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llé permettant l‘identification d‘un utilisateur de messagerie électronique et l‘acheminement des messages qui lui sont destin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rie 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ermettant aux utilisateurs habilités de saisir, d‘envoyer ou de consulter en différé des courriel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31C6-B862-402B-9FEE-9145D83D0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elques termes à connaîtr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6879960" cy="547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4520" y="9288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ssagerie Mozilla Th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35760" y="5141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u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07680" y="259092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un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" y="35049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760" y="4151160"/>
            <a:ext cx="205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et d’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8248-EBC1-4FAC-B5F3-C40C14CBF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érer sa boîte aux let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lient de messag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el installé en local sur vot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 tem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 de pla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il hors connex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vénient : pas d’accès à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2640" y="502920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Eudora, Outlook Express, Thunderbird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820E-B5EE-4BC7-9099-08257E613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érer sa boîte aux lettr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876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web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il de gestion du courriel à distance : fourni par votre fournisseur de messag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ès à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nécessité d’avoir un FAI, ni un ordin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onvéni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nex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n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stion plus simplifi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84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https://webmail.univ-tlse1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6BFF-8BB6-44F6-B076-766A9DFB8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ment procéder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oir un accès à Internet, via 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urnisseur d’Accés à Intern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exemple : fournisseur : free, wanadoo, tele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séder 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resse électron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permet d‘identifier de façon unique l‘utilisateur. Cette adresse vous est donnée par 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urnisseur de messageri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Ce fournisseur de messagerie peut être votre FAI, mais vous pouvez aussi en choisir un diffé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eut être votre fournisseur d‘accès et vous choisissez d‘avoir une adresse électronique chez hotmail.com par exemple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séder 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ssagerie électron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laquelle sont gérés les mess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it vous disposez d‘un logiciel particulier (Netscape Communicator, Eudora, Thunderbird,…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it on met à votre disposition une messagerie en ligne aussi appelée Web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0C66-B3CE-4082-AF92-1202946F2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2720" y="401760"/>
            <a:ext cx="669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ment ça marche ?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817560" cy="1146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5880" y="1597320"/>
            <a:ext cx="221004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veur de messagerie sor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mtp.fournidoo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817560" cy="11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48520" y="4645440"/>
            <a:ext cx="220968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veur de messagerie entr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p.fourniree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793800" cy="586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652320" cy="245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33720" y="2819520"/>
            <a:ext cx="2743200" cy="1828800"/>
          </a:xfrm>
          <a:prstGeom prst="cloudCallout">
            <a:avLst>
              <a:gd name="adj1" fmla="val -33796"/>
              <a:gd name="adj2" fmla="val 29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666880"/>
            <a:ext cx="53316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4571640"/>
            <a:ext cx="9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962520"/>
            <a:ext cx="3581640" cy="2209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715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ma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urniree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3640"/>
            <a:ext cx="17524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pédi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Arial"/>
              </a:rPr>
              <a:t>toto@fournidoo.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3429720"/>
            <a:ext cx="350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Acheminement du message          </a:t>
            </a: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TCP/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143000" y="4724280"/>
            <a:ext cx="793800" cy="58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1905120" y="4343400"/>
            <a:ext cx="38088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990720"/>
            <a:ext cx="3505320" cy="2361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ma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urnidoo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952880" y="2971800"/>
            <a:ext cx="652680" cy="24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00600" y="2666520"/>
            <a:ext cx="9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331240"/>
            <a:ext cx="15238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tina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Arial"/>
              </a:rPr>
              <a:t>tata@fourniree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00600" y="3124080"/>
            <a:ext cx="228600" cy="152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943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81080" y="2393280"/>
            <a:ext cx="3886200" cy="807120"/>
            <a:chOff x="1981080" y="2393280"/>
            <a:chExt cx="3886200" cy="807120"/>
          </a:xfrm>
        </p:grpSpPr>
        <p:sp>
          <p:nvSpPr>
            <p:cNvPr id="146" name=""/>
            <p:cNvSpPr/>
            <p:nvPr/>
          </p:nvSpPr>
          <p:spPr>
            <a:xfrm>
              <a:off x="2666880" y="2393280"/>
              <a:ext cx="1904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envoi message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Arial"/>
                </a:rPr>
                <a:t>SM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981080" y="2590920"/>
              <a:ext cx="3886200" cy="609480"/>
              <a:chOff x="1981080" y="2590920"/>
              <a:chExt cx="3886200" cy="6094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81080" y="2590920"/>
                <a:ext cx="761760" cy="6094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42840" y="3200400"/>
                <a:ext cx="18288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571640" y="2895120"/>
                <a:ext cx="533520" cy="30492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160" y="2895480"/>
                <a:ext cx="76212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867280" y="2590920"/>
                <a:ext cx="0" cy="3045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6095880" y="2666880"/>
            <a:ext cx="0" cy="60984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81480" y="3276720"/>
            <a:ext cx="9144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685800" cy="228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172200" y="4114800"/>
            <a:ext cx="0" cy="533520"/>
          </a:xfrm>
          <a:prstGeom prst="line">
            <a:avLst/>
          </a:prstGeom>
          <a:ln w="1908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81480" y="4114800"/>
            <a:ext cx="99072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320" y="3809520"/>
            <a:ext cx="685800" cy="3049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95680" y="3505320"/>
            <a:ext cx="0" cy="3045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981080" y="4038120"/>
            <a:ext cx="3962160" cy="1192680"/>
            <a:chOff x="1981080" y="4038120"/>
            <a:chExt cx="3962160" cy="1192680"/>
          </a:xfrm>
        </p:grpSpPr>
        <p:sp>
          <p:nvSpPr>
            <p:cNvPr id="161" name=""/>
            <p:cNvSpPr/>
            <p:nvPr/>
          </p:nvSpPr>
          <p:spPr>
            <a:xfrm>
              <a:off x="2438280" y="4616640"/>
              <a:ext cx="2286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réception messa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3300"/>
                  </a:solidFill>
                  <a:latin typeface="Arial"/>
                </a:rPr>
                <a:t>P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981080" y="4038120"/>
              <a:ext cx="3962160" cy="762120"/>
              <a:chOff x="1981080" y="4038120"/>
              <a:chExt cx="3962160" cy="762120"/>
            </a:xfrm>
          </p:grpSpPr>
          <p:sp>
            <p:nvSpPr>
              <p:cNvPr id="163" name=""/>
              <p:cNvSpPr/>
              <p:nvPr/>
            </p:nvSpPr>
            <p:spPr>
              <a:xfrm>
                <a:off x="2666880" y="4038480"/>
                <a:ext cx="1828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1981080" y="4038120"/>
                <a:ext cx="685800" cy="762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038480"/>
                <a:ext cx="609480" cy="457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05160" y="4495680"/>
                <a:ext cx="838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43240" y="4495680"/>
                <a:ext cx="0" cy="1526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4724280" y="4038480"/>
            <a:ext cx="3812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1440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808080"/>
                </a:solidFill>
                <a:latin typeface="Arial"/>
              </a:rPr>
              <a:t>E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595008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MTP (Simple Mail Transfer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P (Post Office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B911-418F-4C8F-8467-3D8040B51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2:59:03Z</dcterms:created>
  <dc:creator>C2i - UT1</dc:creator>
  <dc:description/>
  <dc:language>en-US</dc:language>
  <cp:lastModifiedBy>CRI</cp:lastModifiedBy>
  <dcterms:modified xsi:type="dcterms:W3CDTF">2007-09-21T14:20:53Z</dcterms:modified>
  <cp:revision>20</cp:revision>
  <dc:subject/>
  <dc:title>Le courrier électronique</dc:title>
</cp:coreProperties>
</file>