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17D1-AFFD-427C-8316-787C3E7183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emière étape est de remplir le champ recherche du moteur de recherche avec des mots clés. Un ensemble de mots-clés s’appelle une requê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nombre de résultats peut donner les indices suivan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quelques centaines de pages : faute d’orthographe, recherche trop restrictiv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’URL permet de préjuger de la pertinence de la pag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.co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lien commercial alors que .org = association,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.fr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page en français alors que .com = généralement en ang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voir une idée précise de ce que l’on cherche car le navigateur n’est pas voyant et sans un ensemble de termes adéquats, il ne peut pas retrouver les pages intéressa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ormuler une requête en combinant ces mots, des synonym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aminer les résultats pour savoir si une bonne page a été trouvée parmi les premières propos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finer la recherche (rajouter des termes pour réduire le champ d’investigation) ou élargir (enlever des mots si requête trop restrictive, remplacer par des synonymes, etc.) pour relancer une meilleure recher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ésenter rapidement les différents champs disponibles de la recherche avancée avant les exerc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tout le principe de recherche d’une expression exacte avec les guillemets anglais: " 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 page web est un fichier de données (extension .htm ou .html)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 fichier a la particularité de contenir du texte, des images, des contenus interactif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Web contient également toutes les informations nécessaires à la mise en forme de son cont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Cliquez ic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le texte affiché. Lorsque l’utilisateur clique, la page cible est chargée par le navigat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 faire des liens vers des pages situées n’importe où sur Internet, les pages ont besoin d’une adresse unique (comme les ordinateurs connectés à un réseau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tte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dresse uniqu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est l’URL de la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accède au site grâce à l’URL de la page d’index ou plus simplement www.mon-site.f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accède pas aux autres pages en saisissant leur URL dans la barre d’adresse du navigateur mais généralement par des liens hypertex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ésenter les fenêt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barre URL, fenêtre principale, barre d’état, volet d’exp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ésenter les bout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précédent, suivent, home, recharger, rechercher, favo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volet d’exploration peut contenir l’historique ou les favor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ée avec un logiciel de traitement de texte, la page web apparaît comme un fichier texte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qu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ur faire apparaître le code 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fait, seul le navigateur Internet sait l’interpré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917B-4091-4004-A647-86DA75BC2B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rsqu’une adresse est entrée dans la barre d’adresse d’un navigateur, celui-ci se connecte au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ordinateur distant) sur lequel la page correspondant à cette adresse est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ébergé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navigateur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élécharg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a page Web ainsi que les documents multimédia qui y sont attachés (images, sons, etc.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 n’a plus qu’à afficher cette page, de la même manière qu’un traitement de texte afficherait un document tex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A83B-F8DB-4055-ADF8-8C970CC7B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151B-1CC6-48A6-A5E4-8C72BF567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5F53-F298-4C7F-AF45-00E84C739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12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176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12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176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864D-C6E1-438E-A835-534A2B308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B39F-4B35-473B-9994-FED962F2DE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76CDB-4321-4FD1-822B-04C3DB7FAF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C2E1-1FD4-44AF-8763-BE42C1D570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432F-D0A3-492E-9C66-6B81CAD088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F298-7706-4229-97F2-5D06414CEE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2360" y="404640"/>
            <a:ext cx="68403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4A1BB-2CD6-4688-ACB2-B7E74DE2BF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4E6D8-DA7C-4752-B10B-C98D9F2E1B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9158-512F-4A2D-BE64-19C21D9DD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F68F1-CA36-4B8C-802C-36F8D37BF3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8578-1316-4679-8C03-265D93F054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9C2AD-6E7D-4992-BBBB-87CF298EF8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92F76-4640-4135-9071-CB0448A634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912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176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912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176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03987-B45A-43CC-82BF-D33C2D6164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5760-209B-40F4-BC15-5251F9B01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9A6E-0505-48DD-9359-6CE606708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A2FD-8EE5-4242-A70A-B6BE19911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2360" y="404640"/>
            <a:ext cx="68403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9253-14BC-4096-A711-A30DDAD97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2EA3-91F6-498D-ADEC-5ED3B0E8C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05B3-193E-4CB0-B850-C8DD456B0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FF86-423F-42B4-B634-4BD6D163B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82440"/>
          <a:ext cx="21956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2440"/>
                    <a:ext cx="21956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4720" y="6265440"/>
            <a:ext cx="101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8CD2-2585-4F38-9D13-0FB5F1930190}" type="slidenum"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82440"/>
          <a:ext cx="21956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2440"/>
                    <a:ext cx="21956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884720" y="6265440"/>
            <a:ext cx="101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AD1D-2EAF-4CF8-9806-1FCC56D18E41}" type="slidenum"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hyperlink" Target="http://www.mon-site.fr/index.html" TargetMode="External"/><Relationship Id="rId4" Type="http://schemas.openxmlformats.org/officeDocument/2006/relationships/hyperlink" Target="http://www.mon-site.fr/index.html" TargetMode="External"/><Relationship Id="rId5" Type="http://schemas.openxmlformats.org/officeDocument/2006/relationships/hyperlink" Target="http://www.mon-site.fr/index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Le Web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Domaines B2 et B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3B302-4327-4336-B684-30AF3D4DC6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echerche d’informations sur le Web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25892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moteurs de reche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57440" y="3716280"/>
            <a:ext cx="4319640" cy="2990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D83A4-BE90-4017-B168-5D4E9AA8EA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moteurs de recherch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Web est une mine quasi infinie d’informations, en perpétuelle é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r trouver l’information qui l’intéresse, l’internaute à besoin d’utiliser un moteur de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teur de recher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un site web particulier qui est capable d’organiser et de retrouver des pages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moteurs de recherc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ex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s pages sur leur cont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la demande de l’internaute, ils recherchent toutes les pages qui correspondent à un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quê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iculi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48AA-1C24-4F7B-B809-5D9B915DBE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moteurs de recherch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40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trouve aussi certains moteurs particuli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sites portails proposent également une sélection de sites par thè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Arial"/>
              </a:rPr>
              <a:t>www.yahoo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meta-moteurs lancent une recherche sur plusieurs moteurs simultané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Arial"/>
              </a:rPr>
              <a:t>www.metacrawl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753080" y="1538280"/>
            <a:ext cx="4140000" cy="2040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753080" y="4335480"/>
            <a:ext cx="4140000" cy="1366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57BB-DD38-41BA-A740-327A096B79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yntaxe d’une requêt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requête est une suite de mot-clés, précédés ou non par des op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mots-clés correspondent aux mots qui doivent guider la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i majuscules, ni accents, ni caractères spécia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opérateurs permettent de combiner les mots-c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pression entière :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‘‘faites un voeu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rme obligatoire :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université +toul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clusion :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moteur –reche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elle requête renvoie les pages Web qui parlent de tour de France, mais pas de cyclisme, ni de voil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B724-3152-4ED7-9BC5-9190E373DC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aminer les résultat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1706400"/>
            <a:ext cx="8435880" cy="1865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3865320"/>
            <a:ext cx="84358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r un regard critique sur les 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bre de résul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 de l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umé de l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er concentré sur le but initial de la reche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3DE4-2247-4D38-B422-ED8FB00DAC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ratégie de recherch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stratégie de recherche d’information sur le Web suit l’algorithme suiv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r une idée précise de ce que l'on cherch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er une requê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r les résulta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iner ou élargir la recher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qu’à trouver l’information perti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41440" y="2781360"/>
            <a:ext cx="358560" cy="720720"/>
            <a:chOff x="541440" y="2781360"/>
            <a:chExt cx="358560" cy="720720"/>
          </a:xfrm>
        </p:grpSpPr>
        <p:sp>
          <p:nvSpPr>
            <p:cNvPr id="171" name=""/>
            <p:cNvSpPr/>
            <p:nvPr/>
          </p:nvSpPr>
          <p:spPr>
            <a:xfrm flipH="1">
              <a:off x="541440" y="3502080"/>
              <a:ext cx="358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41440" y="2781360"/>
              <a:ext cx="0" cy="720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440" y="2781360"/>
              <a:ext cx="2977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C738-B9C4-43BF-BA1F-907127345C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ercic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la rubrique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Quizz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faites le questionnaire intitul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Utilisation d’un moteur de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ABC4-FB6E-4318-B246-D0EED6B8FA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a recherche avancé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plupart des moteurs de recherche proposent des options de recherche avan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6840360" cy="393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32AE-0B69-473A-9CCB-4756313918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ercice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echerch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vanc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la rubrique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Exercic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faites l’exercice intitul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La recherche avancée avec Google ou Yah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iabil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bje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l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la rubrique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ai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les exercices concernant la pertinence des sources d’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AB58-75DA-4CF2-A98B-190742FF0E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réseaux sociaux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lications apparues avec le Web 2.0 permettant aux usagers de se mettre en re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mp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ebook (photos, jeux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pains d’Avant (photos de cla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yspace (partage de musique), employé par les musici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nkedin (réseaux professio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lications centrées sur le partage de ressourc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mp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ezer (partage de musique par des éditeurs et des créate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likr (partage de pho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B421-DA4E-406C-A2E4-A93DF8C82A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éfinition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World Wide Web (www) définit un réseau logique de documents reliés les uns aux autres par des liens hypertex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s documents s’appellent d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ges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ages Web sont des fichiers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s fichiers ont comme extension .htm ou 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s sont situées sur des ordinateurs (serveurs) reliés à Internet : Internet est le support du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Web se base sur la technologi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ypertext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qui per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’afficher dans une page Web du texte, des images et tout type de contenu multimédia ou interac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relier toutes ces informations grâce aux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iens hypertex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E455-106A-49B7-A963-4F7BA61991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emple de page web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16000" y="1698480"/>
            <a:ext cx="7072200" cy="4229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91B3-D0A4-4117-A7F6-01B67898BB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ypertexte et UR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hypertexte permet de sauter d’une page à l’au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lien hypertexte est un raccourci vers un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est composé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’un texte : qui apparaît dans le navigateu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’une cible : l’adresse de la page à affic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navigateur affiche les liens soulignés : 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Arial"/>
              </a:rPr>
              <a:t>cliquez 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aque page sur Internet a besoin d’être identifiée précisément et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iqu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URL est l’adresse exacte d’un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ww.univ-tlse1.fr/C2i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2519280" y="4399920"/>
            <a:ext cx="73080" cy="1727280"/>
          </a:xfrm>
          <a:custGeom>
            <a:avLst/>
            <a:gdLst>
              <a:gd name="textAreaLeft" fmla="*/ 46800 w 73080"/>
              <a:gd name="textAreaRight" fmla="*/ 73440 w 73080"/>
              <a:gd name="textAreaTop" fmla="*/ 18360 h 1727280"/>
              <a:gd name="textAreaBottom" fmla="*/ 170892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9"/>
                  <a:pt x="10800" y="738"/>
                </a:cubicBezTo>
                <a:lnTo>
                  <a:pt x="10800" y="10073"/>
                </a:lnTo>
                <a:cubicBezTo>
                  <a:pt x="10800" y="10442"/>
                  <a:pt x="5400" y="10811"/>
                  <a:pt x="0" y="10811"/>
                </a:cubicBezTo>
                <a:cubicBezTo>
                  <a:pt x="5400" y="10811"/>
                  <a:pt x="10800" y="11180"/>
                  <a:pt x="10800" y="11549"/>
                </a:cubicBezTo>
                <a:lnTo>
                  <a:pt x="10800" y="20862"/>
                </a:lnTo>
                <a:cubicBezTo>
                  <a:pt x="10800" y="2123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4560" y="5300640"/>
            <a:ext cx="2305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 de domaine : 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 s’agit du nom du serveur sur lequel la page est localis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175640" y="4543560"/>
            <a:ext cx="73080" cy="1440000"/>
          </a:xfrm>
          <a:custGeom>
            <a:avLst/>
            <a:gdLst>
              <a:gd name="textAreaLeft" fmla="*/ 46800 w 73080"/>
              <a:gd name="textAreaRight" fmla="*/ 73440 w 73080"/>
              <a:gd name="textAreaTop" fmla="*/ 15120 h 1440000"/>
              <a:gd name="textAreaBottom" fmla="*/ 142488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9"/>
                  <a:pt x="10800" y="738"/>
                </a:cubicBezTo>
                <a:lnTo>
                  <a:pt x="10800" y="10073"/>
                </a:lnTo>
                <a:cubicBezTo>
                  <a:pt x="10800" y="10442"/>
                  <a:pt x="5400" y="10811"/>
                  <a:pt x="0" y="10811"/>
                </a:cubicBezTo>
                <a:cubicBezTo>
                  <a:pt x="5400" y="10811"/>
                  <a:pt x="10800" y="11180"/>
                  <a:pt x="10800" y="11549"/>
                </a:cubicBezTo>
                <a:lnTo>
                  <a:pt x="10800" y="20862"/>
                </a:lnTo>
                <a:cubicBezTo>
                  <a:pt x="10800" y="2123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62200" y="5300640"/>
            <a:ext cx="2305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Web :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 s’agit du chemin complet de la page sur le serv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C9A3-5198-48E0-83A4-FA34281025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sites Web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84720" y="3357720"/>
          <a:ext cx="2554560" cy="25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3357720"/>
                    <a:ext cx="255456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 flipV="1">
            <a:off x="5175360" y="3738240"/>
            <a:ext cx="1008000" cy="187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27280" y="5516640"/>
            <a:ext cx="2736720" cy="431640"/>
            <a:chOff x="2627280" y="5516640"/>
            <a:chExt cx="2736720" cy="431640"/>
          </a:xfrm>
        </p:grpSpPr>
        <p:sp>
          <p:nvSpPr>
            <p:cNvPr id="109" name=""/>
            <p:cNvSpPr/>
            <p:nvPr/>
          </p:nvSpPr>
          <p:spPr>
            <a:xfrm>
              <a:off x="2627280" y="5516640"/>
              <a:ext cx="2736720" cy="431640"/>
            </a:xfrm>
            <a:prstGeom prst="foldedCorner">
              <a:avLst>
                <a:gd name="adj" fmla="val 21981"/>
              </a:avLst>
            </a:prstGeom>
            <a:noFill/>
            <a:ln w="255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www.mon-site.f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48360" y="558792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site Web est un ensemble cohérent de pages Web et de ressources associées (images, sons, fichiers multimédia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tué sur l’espace disque d’un serveur web connecté à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ructure arboresc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ge d’accueil :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accède au site Web grâc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à l’URL de la page d’index : </a:t>
            </a:r>
            <a:br>
              <a:rPr sz="2400"/>
            </a:b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on-site.fr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BF07-0A4F-4E2F-B8F7-BB94D12D27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navigateur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navigateur est un logiciel capable d’afficher des pages 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50920" y="2087640"/>
            <a:ext cx="6080400" cy="42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6606-F2BA-4F05-99EF-4A650AE3BF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emple de page web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7072200" cy="4228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6191280" cy="340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1004-B665-41A2-81FD-5CB7158254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715000" y="4624920"/>
            <a:ext cx="22096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eur web</a:t>
            </a:r>
            <a:br>
              <a:rPr sz="16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ww.domaine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1600200"/>
            <a:ext cx="4038840" cy="4800600"/>
          </a:xfrm>
          <a:custGeom>
            <a:avLst/>
            <a:gdLst>
              <a:gd name="textAreaLeft" fmla="*/ 196920 w 4038840"/>
              <a:gd name="textAreaRight" fmla="*/ 3841920 w 4038840"/>
              <a:gd name="textAreaTop" fmla="*/ 196920 h 4800600"/>
              <a:gd name="textAreaBottom" fmla="*/ 4603680 h 4800600"/>
            </a:gdLst>
            <a:ahLst/>
            <a:rect l="textAreaLeft" t="textAreaTop" r="textAreaRight" b="textAreaBottom"/>
            <a:pathLst>
              <a:path w="21600" h="25674">
                <a:moveTo>
                  <a:pt x="3600" y="0"/>
                </a:moveTo>
                <a:arcTo wR="3600" hR="3600" stAng="16200000" swAng="-5400000"/>
                <a:lnTo>
                  <a:pt x="0" y="22074"/>
                </a:lnTo>
                <a:arcTo wR="3600" hR="3600" stAng="10800000" swAng="-5400000"/>
                <a:lnTo>
                  <a:pt x="18000" y="256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15238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main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omaine.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21240" y="3484800"/>
            <a:ext cx="91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39625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68360" y="3429000"/>
            <a:ext cx="1752840" cy="990720"/>
          </a:xfrm>
          <a:prstGeom prst="cloudCallout">
            <a:avLst>
              <a:gd name="adj1" fmla="val -159240"/>
              <a:gd name="adj2" fmla="val -36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2674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s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692360" y="2708280"/>
            <a:ext cx="4680000" cy="649440"/>
            <a:chOff x="1692360" y="2708280"/>
            <a:chExt cx="4680000" cy="649440"/>
          </a:xfrm>
        </p:grpSpPr>
        <p:sp>
          <p:nvSpPr>
            <p:cNvPr id="131" name=""/>
            <p:cNvSpPr/>
            <p:nvPr/>
          </p:nvSpPr>
          <p:spPr>
            <a:xfrm>
              <a:off x="1692360" y="3357720"/>
              <a:ext cx="4680000" cy="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50920" y="2708280"/>
              <a:ext cx="424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99"/>
                  </a:solidFill>
                  <a:latin typeface="Arial"/>
                </a:rPr>
                <a:t>2. Demande de pag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50920" y="5006880"/>
            <a:ext cx="36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4. Affichage de la page par le navig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692000" y="4581360"/>
            <a:ext cx="4608720" cy="464040"/>
            <a:chOff x="1692000" y="4581360"/>
            <a:chExt cx="4608720" cy="464040"/>
          </a:xfrm>
        </p:grpSpPr>
        <p:sp>
          <p:nvSpPr>
            <p:cNvPr id="135" name=""/>
            <p:cNvSpPr/>
            <p:nvPr/>
          </p:nvSpPr>
          <p:spPr>
            <a:xfrm>
              <a:off x="2050920" y="4646520"/>
              <a:ext cx="424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3. Téléchargement de la p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692000" y="4581360"/>
              <a:ext cx="46083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888000" cy="1092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79280" y="4700520"/>
            <a:ext cx="1800360" cy="1752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écupération d’une page Web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227664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1. Connexion avec le serv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284720" y="3716280"/>
            <a:ext cx="720720" cy="561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443640" y="3068640"/>
            <a:ext cx="1085760" cy="1485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0920" y="3429000"/>
            <a:ext cx="158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730080" y="3068640"/>
            <a:ext cx="110520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900D2-F32D-4B58-8BA7-A215110F81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ercice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la rubrique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évaluez-vou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faites l’exercice intitul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Navigation avec Internet Explorer et Fire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rès avoir décidé quel navigateur vous convenait le mieux, réalisez les exercices suivan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Options d’Internet Explorer / Fire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Créez des favoris (marque-pages) avec Internet Explorer (Firef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30E2-D732-455B-A1C1-4784F7F855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2:03:21Z</dcterms:created>
  <dc:creator>C2i - UT1</dc:creator>
  <dc:description/>
  <dc:language>en-US</dc:language>
  <cp:lastModifiedBy>MS office XP 2002</cp:lastModifiedBy>
  <dcterms:modified xsi:type="dcterms:W3CDTF">2009-09-21T11:35:29Z</dcterms:modified>
  <cp:revision>48</cp:revision>
  <dc:subject/>
  <dc:title>Le Web</dc:title>
</cp:coreProperties>
</file>