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50C0-EF10-4867-AD8E-E1AB545251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0CF3-8B49-4CE7-B15E-CD27845C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F565-F155-4898-AE50-378A33E5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istez sur 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quer deux fois la même méthode de compression ne sert à rien 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ndre éventuellement un exemple pour illust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D4D8-D92D-4E90-A3BB-22DFA59C3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ci, donner un exemple de calc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rtaines pertes d’informations sont sans gravité car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 elles peuvent être sensoriellement pauvres : certaines fréquences pour les sons ne nuisent à pas la qualité du son car nous ne les percevons pas ou presque pas par exe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elles peuvent ne pas nuire au type d’usage que l’on souhaite faire ensuite de ce fichier compressé (affichage sur internet par exemple n’a pas besoin d’être d’une grande qualit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on peut avoir besoin de privilégier la taille à la qualité (affichage, envoi,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285D-807C-48FF-8284-F1B18108E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9280-BD03-42DB-8B19-2139223AE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B3F0-D522-48DD-A201-EE11210DB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67DD-0497-40C8-89A7-4FF96557D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40FD-CBFC-4F86-BD3C-7F112F469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AD9A-E490-4CFC-ADBE-C13854F149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B71F-A104-47A3-B1B0-B1C6DDABC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803E-2365-4506-B218-4F7AD74680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AE47-E7FA-4D8C-9E5D-9F4A1F5D48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7041-32F0-431D-8A6D-A3CBA5309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9885-B0D5-4C19-9641-EA8D64F05C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CD51-284C-4AF5-AF13-7C93D9012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BA74-274F-41B3-B927-D21240517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35C7-112A-4ED9-A422-E310C557EE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F7CC-D27E-4586-89D7-619A232DFC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AA19-6BE9-4DED-BA6D-3016F149F9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BB89-C476-4A28-B897-989732482B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912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1760" y="141300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912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1760" y="389556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AC6A-60EA-4605-A8C9-1BA6E5C9B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1AA2-1A06-4DFB-A083-C0D1EBBE7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C89E-53CA-4A3D-BDDA-EC6D0B492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DEAB-F16B-401F-B001-FCD08157C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2360" y="404640"/>
            <a:ext cx="6840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32EE-069F-4223-B59D-3830B9421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B022-1BF6-4FB8-923C-69EB512F8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9720" y="389556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12CC-B0BF-4676-8E24-6376B656F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141300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95560"/>
            <a:ext cx="8435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2955-2E83-41F5-97E3-A070AB658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2195640" cy="1114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2F91-0E71-4949-8F38-8B06A95DDCC3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SzPct val="70000"/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219564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884720" y="626544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508A-3583-49DC-B16A-2AFFC6410980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786B-EB86-4DBC-8C6D-D782B493BEAE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mpression et archivage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Autofit/>
          </a:bodyPr>
          <a:p>
            <a:pPr marL="382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d100"/>
                </a:solidFill>
                <a:latin typeface="Arial"/>
              </a:rPr>
              <a:t>Domaine 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258920" y="14400"/>
            <a:ext cx="20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8452-E42B-4DEF-84F7-267D3D14D613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ression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5320" y="1374480"/>
            <a:ext cx="8435880" cy="4933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qui permet de réduire la taille d’un fichier en modifi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odage de l’information qu‘il cont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opposée à la compression qui permet de reconstruire le fichier original en restaurant le codage initial de l’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éviation de COmpresseur/DECompresseur. Elément matériel ou logiciel permettant de compresser et décompresser des données numér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quer deux fois la même méthode de compression ne sert à ri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14400"/>
            <a:ext cx="20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47FB-0DE4-4E5B-B768-13D58933CCC0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 compression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quoi a-t-on besoin de compress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age ou sauvegarde de grandes quantités de donn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51"/>
              </a:spcBef>
              <a:buClr>
                <a:srgbClr val="99ff66"/>
              </a:buClr>
              <a:buSzPct val="69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thèque multimédia, albums photo, sauvegarde d’un fichier entrepris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oi de fichiers à travers Interne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51"/>
              </a:spcBef>
              <a:buClr>
                <a:srgbClr val="99ff66"/>
              </a:buClr>
              <a:buSzPct val="69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èces jointes d’un courrier électronique, élements de site We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mesurer la performance d’une compress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ux de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e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58920" y="14400"/>
            <a:ext cx="20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11760" y="4422600"/>
            <a:ext cx="1257120" cy="825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3851280" y="5564160"/>
            <a:ext cx="1449360" cy="749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3809880" y="6384960"/>
            <a:ext cx="2044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8"/>
          <p:cNvGrpSpPr/>
          <p:nvPr/>
        </p:nvGrpSpPr>
        <p:grpSpPr>
          <a:xfrm>
            <a:off x="5637240" y="4308480"/>
            <a:ext cx="1876320" cy="1082520"/>
            <a:chOff x="5637240" y="4308480"/>
            <a:chExt cx="1876320" cy="1082520"/>
          </a:xfrm>
        </p:grpSpPr>
        <p:pic>
          <p:nvPicPr>
            <p:cNvPr id="103" name="Picture 9" descr=""/>
            <p:cNvPicPr/>
            <p:nvPr/>
          </p:nvPicPr>
          <p:blipFill>
            <a:blip r:embed="rId4"/>
            <a:stretch/>
          </p:blipFill>
          <p:spPr>
            <a:xfrm>
              <a:off x="5649840" y="4308480"/>
              <a:ext cx="22860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0" descr=""/>
            <p:cNvPicPr/>
            <p:nvPr/>
          </p:nvPicPr>
          <p:blipFill>
            <a:blip r:embed="rId5"/>
            <a:stretch/>
          </p:blipFill>
          <p:spPr>
            <a:xfrm>
              <a:off x="5637240" y="4778280"/>
              <a:ext cx="2412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1"/>
            <p:cNvSpPr/>
            <p:nvPr/>
          </p:nvSpPr>
          <p:spPr>
            <a:xfrm>
              <a:off x="5917680" y="4486320"/>
              <a:ext cx="159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volume ini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5967720" y="4994280"/>
              <a:ext cx="149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volume f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88EF-1BCD-4E4A-9C55-39B44D346AE7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éthodes de compression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4000"/>
          </a:bodyPr>
          <a:p>
            <a:pPr marL="359640" indent="-32220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mpression physique : agit sur le codage de l’information (les bits) sans savoir quel type d’information elle manip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édé sans perte d’informa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451"/>
              </a:spcBef>
              <a:buClr>
                <a:srgbClr val="99ff66"/>
              </a:buClr>
              <a:buSzPct val="69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écompression du fichier compressé permet de retrouver exactement le fichier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fait grâce à u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iciel d’archiv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640" indent="-32220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mpression logique : agit de manière spécifique sur un certain type de donné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édé avec ou sans perte d’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fait grâce au logiciel qui permet de visualiser ou de manipuler ce type de donné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451"/>
              </a:spcBef>
              <a:buClr>
                <a:srgbClr val="99ff66"/>
              </a:buClr>
              <a:buSzPct val="69000"/>
              <a:buFont typeface="Wingdings 3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écessité de posséder le cod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FFE9-6115-47D4-A8E4-7314A3D2879B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 compression physiqu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8280" y="1166400"/>
            <a:ext cx="8433000" cy="55753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9000"/>
          </a:bodyPr>
          <a:p>
            <a:pPr marL="378720" indent="-33948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r physiquement un fichier : le placer dans une archive avec l’option de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archive est un fichier contenant un ou plusieurs fich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énéralement, les fichiers dans une archive sont compress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ogiciels d’archivag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s de compression physique : ZIP, RAR, GZ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1057320" y="4844880"/>
            <a:ext cx="7463880" cy="1536840"/>
            <a:chOff x="1057320" y="4844880"/>
            <a:chExt cx="7463880" cy="1536840"/>
          </a:xfrm>
        </p:grpSpPr>
        <p:pic>
          <p:nvPicPr>
            <p:cNvPr id="114" name="Picture 6" descr=""/>
            <p:cNvPicPr/>
            <p:nvPr/>
          </p:nvPicPr>
          <p:blipFill>
            <a:blip r:embed="rId1"/>
            <a:stretch/>
          </p:blipFill>
          <p:spPr>
            <a:xfrm>
              <a:off x="4240440" y="5014800"/>
              <a:ext cx="212796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"/>
            <p:cNvPicPr/>
            <p:nvPr/>
          </p:nvPicPr>
          <p:blipFill>
            <a:blip r:embed="rId2"/>
            <a:stretch/>
          </p:blipFill>
          <p:spPr>
            <a:xfrm>
              <a:off x="1057320" y="490536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"/>
            <p:cNvPicPr/>
            <p:nvPr/>
          </p:nvPicPr>
          <p:blipFill>
            <a:blip r:embed="rId3"/>
            <a:stretch/>
          </p:blipFill>
          <p:spPr>
            <a:xfrm>
              <a:off x="2190960" y="4965480"/>
              <a:ext cx="7315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3130920" y="4844880"/>
              <a:ext cx="95400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0" descr=""/>
            <p:cNvPicPr/>
            <p:nvPr/>
          </p:nvPicPr>
          <p:blipFill>
            <a:blip r:embed="rId5"/>
            <a:stretch/>
          </p:blipFill>
          <p:spPr>
            <a:xfrm>
              <a:off x="6948000" y="4929120"/>
              <a:ext cx="130500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11"/>
            <p:cNvSpPr/>
            <p:nvPr/>
          </p:nvSpPr>
          <p:spPr>
            <a:xfrm>
              <a:off x="1057320" y="5770440"/>
              <a:ext cx="95076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nz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2081160" y="5770440"/>
              <a:ext cx="95112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-z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130920" y="5770440"/>
              <a:ext cx="95112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nr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825080" y="5770440"/>
              <a:ext cx="95256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Z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6692400" y="5783040"/>
              <a:ext cx="18288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ffit expander (ma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6"/>
          <p:cNvGrpSpPr/>
          <p:nvPr/>
        </p:nvGrpSpPr>
        <p:grpSpPr>
          <a:xfrm>
            <a:off x="1981080" y="2819520"/>
            <a:ext cx="5384880" cy="1690560"/>
            <a:chOff x="1981080" y="2819520"/>
            <a:chExt cx="5384880" cy="1690560"/>
          </a:xfrm>
        </p:grpSpPr>
        <p:pic>
          <p:nvPicPr>
            <p:cNvPr id="125" name="Picture 17" descr=""/>
            <p:cNvPicPr/>
            <p:nvPr/>
          </p:nvPicPr>
          <p:blipFill>
            <a:blip r:embed="rId6"/>
            <a:stretch/>
          </p:blipFill>
          <p:spPr>
            <a:xfrm>
              <a:off x="1981080" y="2819520"/>
              <a:ext cx="5384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18"/>
            <p:cNvSpPr/>
            <p:nvPr/>
          </p:nvSpPr>
          <p:spPr>
            <a:xfrm>
              <a:off x="6218280" y="3386160"/>
              <a:ext cx="637920" cy="1123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885080" y="626580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69F9-B30F-49C5-87E2-17C65E269EA1}" type="slidenum">
              <a:rPr b="0" lang="en-US" sz="16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2360" y="40464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 compression logiqu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4000"/>
          </a:bodyPr>
          <a:p>
            <a:pPr marL="359640" indent="-32220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r logiquement un fichier : l’enregistrer dans un format de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9640" indent="-322200">
              <a:spcBef>
                <a:spcPts val="601"/>
              </a:spcBef>
              <a:buClr>
                <a:srgbClr val="cc0099"/>
              </a:buClr>
              <a:buSzPct val="6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s : GIF, PNG,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 : MP3, OGG, WMA, AAC, FLAC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499"/>
              </a:spcBef>
              <a:buClr>
                <a:srgbClr val="ff9900"/>
              </a:buClr>
              <a:buSzPct val="69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éo : MPEG, DIVX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258920" y="14400"/>
            <a:ext cx="20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ntre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643120" y="2205000"/>
            <a:ext cx="4016520" cy="297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4:55:12Z</dcterms:created>
  <dc:creator>C2i - UT1</dc:creator>
  <dc:description/>
  <dc:language>en-US</dc:language>
  <cp:lastModifiedBy>CRI</cp:lastModifiedBy>
  <dcterms:modified xsi:type="dcterms:W3CDTF">2008-09-14T14:48:07Z</dcterms:modified>
  <cp:revision>72</cp:revision>
  <dc:subject/>
  <dc:title>Gestion des données</dc:title>
</cp:coreProperties>
</file>