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5F8-3BB9-4AFF-9FEB-2DABD4008C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 Tous les fichiers et tous les dossiers » couvre « images, musiques, vidéos » et « Documents 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 Ordinateurs ou personnes » permet de rechercher d’autres ordinateurs (réseau) ou des personnes (annuai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sibilité de combiner tous ces critè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option « rechercher dans les sous-dossiers » est cochée par défa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pons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ttre.doc, Cv.doc, Convocation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v.doc, Convocation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tes.xls, Cv.doc, Convocation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v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us les fichiers sauf T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cun fich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dexation des fichiers du dis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29C8-E422-4199-80D0-A6BEBBD2B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8A00-F10B-46AF-B23D-41CE1135E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082E-F8D0-4939-92C8-35EE1CDE2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99DE-ECD8-4A9D-89D7-C436123A3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C6B4-8D2A-431B-962E-39FC1547E5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EAA5-ADA2-4D0E-A7F6-835195C163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2BF4-9B55-4E4D-872C-A1BC252E8C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E89C-4953-48E7-B474-227940AC36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4479-9D2D-46BB-9562-33BD372864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2182-5447-4FE7-B929-B339FCF7CC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06E8-225C-441E-8E8A-8A9687693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94DD-3A6C-4580-8F21-DBB924446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2340-625B-463E-9A1E-10BEC97DC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C43A-92D4-48E7-B384-54DCE87560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6C9A-5827-4746-B891-249E718D24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80A3-697D-488C-833F-98E55C5A4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C373-2C77-4D8B-BA05-797685147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E25D-0E24-4CA0-9288-638336FAF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1F2C-B9EB-4C96-BE20-766D736B8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EF11-D0A7-4D5F-AEA9-B56F4DD55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9C11-6CA9-47CD-BD8A-51B7B754D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7313-7FAE-4EF9-9BA0-AFD808FE7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FB36-0191-4D06-8E73-4F748A086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5BC6-78AA-4427-A234-9E50CDAA8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101-FC40-48B7-ACA9-1176977757DC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460A-F389-44B9-9151-3272FF99F8E9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cherche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omaines B1 et 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5229360"/>
            <a:ext cx="1789200" cy="655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1800360" cy="87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5524" t="80111" r="83113" b="1678"/>
          <a:stretch/>
        </p:blipFill>
        <p:spPr>
          <a:xfrm>
            <a:off x="4211640" y="5013360"/>
            <a:ext cx="86508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2EA6-ADCE-4D98-928D-0902D75BA6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nction de recherche Window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p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marrer/Rechercher/Des fichiers ou des doss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ateur de fichiers, bouton Recher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25157" b="0"/>
          <a:stretch/>
        </p:blipFill>
        <p:spPr>
          <a:xfrm>
            <a:off x="2268360" y="2652840"/>
            <a:ext cx="4464360" cy="402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F01A-9384-48D2-A79F-F5F1E9548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nction de recherche Window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5410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rcher des fichiers ou des dossie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680" t="49585" r="66067" b="45154"/>
          <a:stretch/>
        </p:blipFill>
        <p:spPr>
          <a:xfrm>
            <a:off x="826920" y="2205000"/>
            <a:ext cx="396108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2036" t="20994" r="61241" b="14238"/>
          <a:stretch/>
        </p:blipFill>
        <p:spPr>
          <a:xfrm>
            <a:off x="5510160" y="1343160"/>
            <a:ext cx="3024360" cy="52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900000" y="2924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ur nom (complet ou parti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4275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ur cont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93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sier dans lequel faire la reche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724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ur date de dernière modification, de dernier accès, ou de cré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u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5734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eur t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84720" y="2204640"/>
            <a:ext cx="1295280" cy="79236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40360" y="2707920"/>
            <a:ext cx="1439640" cy="8650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40360" y="3284640"/>
            <a:ext cx="1439640" cy="7920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CA9C-F0B8-4012-AB9F-B76CC9438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nction de recherche Window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rche par le nom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partielle du nom :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l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ion de caractères génér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place 0 ou n caract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urier New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place un seul caract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.t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 les fichiers dont l’extension e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*.t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 les fichiers dont le nom commence p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dont l’extension e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.*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fichiers dont le nom comporte une seule let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c n’importe quelle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036" t="27638" r="61241" b="65779"/>
          <a:stretch/>
        </p:blipFill>
        <p:spPr>
          <a:xfrm>
            <a:off x="3059280" y="1916280"/>
            <a:ext cx="3719520" cy="6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6E3F-A0BD-4A76-8BB9-FC63D66C08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ercic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41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it l’ensemble des fichiers suiva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ttre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te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sin.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ctur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i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v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vocation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ient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chive.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0920" y="1413000"/>
            <a:ext cx="4141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l résultat obtient-on si l’on applique les filtres suiv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250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*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*.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?.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.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f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.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5A2C-D0B0-4EE1-AA12-F7F97BFB5F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teur de recherche de bureau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giciel qui permet de chercher fichiers et dossiers, mais aussi courriels, historiques We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: Windows Desktop Search, Google Desktop, Beag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 rapport à la fonction de recherche class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 ra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 d’options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1788840" cy="655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1800360" cy="8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A7F2-4122-4D87-8ECD-40A984C277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0:04:43Z</dcterms:created>
  <dc:creator>C2i - UT1</dc:creator>
  <dc:description/>
  <dc:language>en-US</dc:language>
  <cp:lastModifiedBy>Sylvie Doutre</cp:lastModifiedBy>
  <dcterms:modified xsi:type="dcterms:W3CDTF">2008-09-05T12:41:10Z</dcterms:modified>
  <cp:revision>23</cp:revision>
  <dc:subject/>
  <dc:title>Recherche de fichier</dc:title>
</cp:coreProperties>
</file>